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80680"/>
            <a:ext cx="7924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806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41806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7524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524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806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41806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41806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41806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6240" y="41806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180680"/>
            <a:ext cx="7924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4180680"/>
            <a:ext cx="7924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41806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6240" y="41806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4920" y="17524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7524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41806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4920" y="41806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418068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806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41806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75248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80680"/>
            <a:ext cx="792468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762120"/>
            <a:ext cx="84362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38480" y="64008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4FF-E3A7-4614-8AB8-F5299AA311A8}" type="slidenum"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320400" y="14400"/>
            <a:ext cx="103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p. 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362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400" y="14400"/>
            <a:ext cx="103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p. 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Symbol" charset="2"/>
              <a:buChar char="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Times New Roman"/>
              </a:rPr>
              <a:t>Text Oper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 Stemming Strategi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able Loo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y looking for the stem of a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on data on stems for the whole language and requiring considerable storag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ccessor var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ing of morpheme boundaries using the knowledge of lingu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mm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724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N-gram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dentification of digrams and trigram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ore a term clustering procedure than a stemming on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ffix Remova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 Porter algorithm ( refer to APPEND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sing a suffix list for suffix stri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pplying a series of rules to the suffixes of the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) Porter Ste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cats </a:t>
            </a:r>
            <a:r>
              <a:rPr b="0" i="1" lang="ko-K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 c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motoring </a:t>
            </a:r>
            <a:r>
              <a:rPr b="0" i="1" lang="ko-K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  mo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hopping </a:t>
            </a:r>
            <a:r>
              <a:rPr b="0" i="1" lang="ko-K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  h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happy </a:t>
            </a:r>
            <a:r>
              <a:rPr b="0" i="1" lang="ko-K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  happ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activate </a:t>
            </a:r>
            <a:r>
              <a:rPr b="0" i="1" lang="ko-K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 acti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mm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ex Terms Sel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ll words are equally significant for representing the semantics of a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nual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of index terms is usually done by specia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utomatic Selection of Index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of the semantics is carried by the nou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ing nouns which appear nearby in the text into a single indexing component (or conce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)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computer scien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x Term Sele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What is the “Thesaurus”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 list of important words in a given domain of knowledge and for each word in this list, a set of related words such as common variation, derived from a synonymity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 controlled vocabular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for the indexing and sear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Main purpo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o provide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a standard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o assist users with proper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query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o provide classified hierarchies that allow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he broadening and narrowing of the current quer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saur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saurus Index Ter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enote a concept which is the basic semantic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individual words, groups of words, or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)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Building, Teaching, Ballistic Missiles, Body Tempera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tly, it is necessary to complement a thesaurus entry with a definition or an expla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)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 Seal (marine animals), Seal(document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saurus Term Relationshi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composed of synonyms and near-synony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(Broader Term), NT(Narrower Term), RT(Related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and NT can be identified in a fully automatic m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ing with RT is much harder, because it dependent on the specific context and particula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saur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3  Document Cluster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erarchical Cluster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sive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lomerative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ingle Lin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mplete Lin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Group-Average Lin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n-Hierarchical Cluster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means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atistical Method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ctionary Metho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ways to represent the text in fewer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ing costs space, I/O overhead, communication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: To access a given word, entire text must be decoded until the desired word is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wo Strateg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stical Meth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Model / Coding (Huffman Coding, Arithmetic Coding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asic Concep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bability is estimated for each symbol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,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is assigned to each symbol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based on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r codes are assigned to the most likely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relationship between probabilities and c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urce code theor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aude Shann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ymbol that occurs with probability    should be assigned a code of  length          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5000" y="4405320"/>
                <a:ext cx="642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1000" y="4267080"/>
                <a:ext cx="211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ression Mod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daptive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Progressively learn about its statistical distribution as the compression process goe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ecompression of a file has to start from its beginn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276720"/>
            <a:ext cx="7924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Static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: Assume an average distribution for all input fu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굴림"/>
              </a:rPr>
              <a:t>Poor compression ratios when the data deviates from initial statistical assump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Semi-static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: Learn a distribution in a first pass, compress the data in a second pass by using a fixed code derived from the distribution learne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굴림"/>
              </a:rPr>
              <a:t>It must make two passes over the text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굴림"/>
              </a:rPr>
              <a:t>Information on the data distribution must be sto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.1 Introduction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.2 Document Processing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.3 Document Clustering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.4 Text Compression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.5 Comparing Text Compression Techniqu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.6 Trends and Research Issu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7.7 Bibliographic Discus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ord Based Compression Mod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words instead of characters as symbo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asons to use this model in an IR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better compress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ords carry a lot of meaning in natural languages and their distribution is much more related to the semantic structure of the text than the individual lett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s are the atoms on which most IR systems are bu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 frequencies are useful in answering queries involving combinations of wor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best strategy is to start with the least frequent words fir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Some considerations in Word-Based Mod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t need to deal with sepa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Ex) “each rose, a rose is a rose”  : {a, each, is, rose, ‘,</a:t>
            </a:r>
            <a:r>
              <a:rPr b="0" lang="ko-KR" sz="1800" spc="-1" strike="noStrike">
                <a:solidFill>
                  <a:srgbClr val="000066"/>
                </a:solidFill>
                <a:latin typeface="Wingdings 3"/>
                <a:ea typeface="Wingdings 3"/>
              </a:rPr>
              <a:t>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’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t have a potential  to generate a great quantity of different codes and care must be exercised to deal with this f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If a sequence of digits is to be considered as a word, one can divide long numbers into shorter ones. </a:t>
            </a:r>
            <a:r>
              <a:rPr b="0" lang="ko-K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 Diminishes the alphabet siz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ow large is the number of different words in a full-text data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                                           </a:t>
            </a:r>
            <a:r>
              <a:rPr b="1" i="1" lang="ko-KR" sz="1800" spc="-1" strike="noStrike">
                <a:solidFill>
                  <a:srgbClr val="000066"/>
                </a:solidFill>
                <a:latin typeface="Times New Roman"/>
              </a:rPr>
              <a:t>V = O(n</a:t>
            </a:r>
            <a:r>
              <a:rPr b="1" i="1" lang="ko-KR" sz="18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ß</a:t>
            </a:r>
            <a:r>
              <a:rPr b="1" i="1" lang="ko-KR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: vocabulary size , n : the number of words in tex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ß : a constant dependent on the particular 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The compression ratio does not degrade as the text grows (by generalized Zipfs’ low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ding : Introdu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ask of obtaining the representation of a symbol based on a probability distribution given by 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main 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to assign short codes to likely symbols and long codes to unlikely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, it is necessary to sacrifice the compression ratio to reduce the time to encode and decode the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wo statistical coding strateg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ffman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ing a variable-length encoding in bits to each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ly fast, and random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ithmetic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text is represented by an interval of real numbers between 0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symbols with higher probabilities reduce the interval less than symbols with smaller probabilities and hence add fewer bits to the outpu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slower than Huffman coding and depression cannot start in the middle of a compresse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uffman Cod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uilding Huffman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for each symbol of the alphabet a node containing the symbol and its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wo nodes with the smallest probabilities become children of a newly created pare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ent node is associated a probability equal to the sum of the probabilities of the two chosen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48769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8769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54864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2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4864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8769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3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54864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en-US" sz="1800" spc="-1" strike="noStrike">
                <a:solidFill>
                  <a:srgbClr val="000066"/>
                </a:solidFill>
                <a:latin typeface="Wingdings 3"/>
                <a:ea typeface="Wingdings 3"/>
              </a:rPr>
              <a:t>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769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769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54864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2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4864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48769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3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4864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en-US" sz="1800" spc="-1" strike="noStrike">
                <a:solidFill>
                  <a:srgbClr val="000066"/>
                </a:solidFill>
                <a:latin typeface="Wingdings 3"/>
                <a:ea typeface="Wingdings 3"/>
              </a:rPr>
              <a:t>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6" name=""/>
          <p:cNvCxnSpPr>
            <a:stCxn id="140" idx="1"/>
            <a:endCxn id="145" idx="1"/>
          </p:cNvCxnSpPr>
          <p:nvPr/>
        </p:nvCxnSpPr>
        <p:spPr>
          <a:xfrm flipH="1" flipV="1" rot="10800000">
            <a:off x="5562360" y="5142600"/>
            <a:ext cx="2160" cy="6102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472428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/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8" name=""/>
          <p:cNvCxnSpPr>
            <a:endCxn id="147" idx="6"/>
          </p:cNvCxnSpPr>
          <p:nvPr/>
        </p:nvCxnSpPr>
        <p:spPr>
          <a:xfrm flipH="1">
            <a:off x="5181120" y="548604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110120" y="523872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2817360" y="445788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) for each rose, a rose is a ro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uilding Huffman Tree(cont’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peration is repeated ignoring nodes that are already children, until there is only on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6386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6386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4956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2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56386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8620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3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56386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en-US" sz="1800" spc="-1" strike="noStrike">
                <a:solidFill>
                  <a:srgbClr val="000066"/>
                </a:solidFill>
                <a:latin typeface="Wingdings 3"/>
                <a:ea typeface="Wingdings 3"/>
              </a:rPr>
              <a:t>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5105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/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0" name=""/>
          <p:cNvCxnSpPr>
            <a:stCxn id="159" idx="2"/>
            <a:endCxn id="153" idx="0"/>
          </p:cNvCxnSpPr>
          <p:nvPr/>
        </p:nvCxnSpPr>
        <p:spPr>
          <a:xfrm flipV="1" rot="10800000">
            <a:off x="1637640" y="5333760"/>
            <a:ext cx="11484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59" idx="6"/>
            <a:endCxn id="158" idx="0"/>
          </p:cNvCxnSpPr>
          <p:nvPr/>
        </p:nvCxnSpPr>
        <p:spPr>
          <a:xfrm>
            <a:off x="2209680" y="5334120"/>
            <a:ext cx="19152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3695760" y="5105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/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3" name=""/>
          <p:cNvCxnSpPr>
            <a:stCxn id="162" idx="2"/>
          </p:cNvCxnSpPr>
          <p:nvPr/>
        </p:nvCxnSpPr>
        <p:spPr>
          <a:xfrm flipV="1" rot="10800000">
            <a:off x="3580560" y="5333760"/>
            <a:ext cx="11520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4152600" y="5334120"/>
            <a:ext cx="19116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2666880" y="449568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/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6" name=""/>
          <p:cNvCxnSpPr>
            <a:stCxn id="159" idx="0"/>
            <a:endCxn id="165" idx="2"/>
          </p:cNvCxnSpPr>
          <p:nvPr/>
        </p:nvCxnSpPr>
        <p:spPr>
          <a:xfrm flipH="1" flipV="1" rot="5400000">
            <a:off x="2133000" y="4571280"/>
            <a:ext cx="3819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5" idx="6"/>
            <a:endCxn id="162" idx="0"/>
          </p:cNvCxnSpPr>
          <p:nvPr/>
        </p:nvCxnSpPr>
        <p:spPr>
          <a:xfrm>
            <a:off x="3123720" y="4723920"/>
            <a:ext cx="801000" cy="3819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1905120" y="3886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6/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9" name=""/>
          <p:cNvCxnSpPr>
            <a:stCxn id="155" idx="0"/>
            <a:endCxn id="168" idx="2"/>
          </p:cNvCxnSpPr>
          <p:nvPr/>
        </p:nvCxnSpPr>
        <p:spPr>
          <a:xfrm flipH="1" flipV="1" rot="5400000">
            <a:off x="1390320" y="3980880"/>
            <a:ext cx="381600" cy="6483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8" idx="6"/>
            <a:endCxn id="165" idx="0"/>
          </p:cNvCxnSpPr>
          <p:nvPr/>
        </p:nvCxnSpPr>
        <p:spPr>
          <a:xfrm>
            <a:off x="2361960" y="4114800"/>
            <a:ext cx="53388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2590920" y="312408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2" name=""/>
          <p:cNvCxnSpPr>
            <a:stCxn id="171" idx="2"/>
            <a:endCxn id="168" idx="0"/>
          </p:cNvCxnSpPr>
          <p:nvPr/>
        </p:nvCxnSpPr>
        <p:spPr>
          <a:xfrm flipV="1" rot="10800000">
            <a:off x="2133000" y="3352320"/>
            <a:ext cx="45792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71" idx="6"/>
            <a:endCxn id="157" idx="0"/>
          </p:cNvCxnSpPr>
          <p:nvPr/>
        </p:nvCxnSpPr>
        <p:spPr>
          <a:xfrm>
            <a:off x="3048120" y="3352680"/>
            <a:ext cx="496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228816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832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429280" y="443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449720" y="5119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303876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288160" y="3767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3038760" y="443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4105800" y="5105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2200680" y="5119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397680" y="512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4025520" y="32004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tex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r each rose, a rose is a ro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6723000" y="34894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5204160" y="39607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110 0100 1 0101 00 1 0111 00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6667560" y="35798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ffman Enco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4648320"/>
            <a:ext cx="3124440" cy="1218960"/>
          </a:xfrm>
          <a:prstGeom prst="wedgeRoundRectCallout">
            <a:avLst>
              <a:gd name="adj1" fmla="val -53657"/>
              <a:gd name="adj2" fmla="val -2968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number of Huffman trees which can be built for a given model is quite lar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nonical Huffman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he height of the left subtree of any node is never smaller than that of the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539604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39604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25304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2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539604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356724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3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539604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en-US" sz="1800" spc="-1" strike="noStrike">
                <a:solidFill>
                  <a:srgbClr val="000066"/>
                </a:solidFill>
                <a:latin typeface="Wingdings 3"/>
                <a:ea typeface="Wingdings 3"/>
              </a:rPr>
              <a:t>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1/9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862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/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8" name=""/>
          <p:cNvCxnSpPr>
            <a:stCxn id="197" idx="2"/>
            <a:endCxn id="191" idx="0"/>
          </p:cNvCxnSpPr>
          <p:nvPr/>
        </p:nvCxnSpPr>
        <p:spPr>
          <a:xfrm flipV="1" rot="10800000">
            <a:off x="2018520" y="5090040"/>
            <a:ext cx="11520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7" idx="6"/>
            <a:endCxn id="196" idx="0"/>
          </p:cNvCxnSpPr>
          <p:nvPr/>
        </p:nvCxnSpPr>
        <p:spPr>
          <a:xfrm>
            <a:off x="2590560" y="5090760"/>
            <a:ext cx="19116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3695760" y="4862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/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1" name=""/>
          <p:cNvCxnSpPr>
            <a:stCxn id="200" idx="2"/>
          </p:cNvCxnSpPr>
          <p:nvPr/>
        </p:nvCxnSpPr>
        <p:spPr>
          <a:xfrm flipV="1" rot="10800000">
            <a:off x="3580560" y="5090040"/>
            <a:ext cx="11520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200" idx="6"/>
          </p:cNvCxnSpPr>
          <p:nvPr/>
        </p:nvCxnSpPr>
        <p:spPr>
          <a:xfrm>
            <a:off x="4152600" y="5090760"/>
            <a:ext cx="19116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2743200" y="425304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/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4" name=""/>
          <p:cNvCxnSpPr>
            <a:stCxn id="197" idx="0"/>
            <a:endCxn id="203" idx="2"/>
          </p:cNvCxnSpPr>
          <p:nvPr/>
        </p:nvCxnSpPr>
        <p:spPr>
          <a:xfrm flipH="1" flipV="1" rot="5400000">
            <a:off x="2361960" y="4481280"/>
            <a:ext cx="38160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3" idx="6"/>
            <a:endCxn id="200" idx="0"/>
          </p:cNvCxnSpPr>
          <p:nvPr/>
        </p:nvCxnSpPr>
        <p:spPr>
          <a:xfrm>
            <a:off x="3200040" y="4481640"/>
            <a:ext cx="72468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352680" y="356724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6/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7" name=""/>
          <p:cNvCxnSpPr>
            <a:stCxn id="203" idx="0"/>
            <a:endCxn id="206" idx="2"/>
          </p:cNvCxnSpPr>
          <p:nvPr/>
        </p:nvCxnSpPr>
        <p:spPr>
          <a:xfrm flipH="1" flipV="1" rot="5400000">
            <a:off x="2933280" y="3833640"/>
            <a:ext cx="45792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endCxn id="193" idx="0"/>
          </p:cNvCxnSpPr>
          <p:nvPr/>
        </p:nvCxnSpPr>
        <p:spPr>
          <a:xfrm>
            <a:off x="3809880" y="3795840"/>
            <a:ext cx="57240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962520" y="28051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0" name=""/>
          <p:cNvCxnSpPr>
            <a:stCxn id="209" idx="2"/>
            <a:endCxn id="206" idx="0"/>
          </p:cNvCxnSpPr>
          <p:nvPr/>
        </p:nvCxnSpPr>
        <p:spPr>
          <a:xfrm flipV="1" rot="10800000">
            <a:off x="3580560" y="3033360"/>
            <a:ext cx="38196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9" idx="6"/>
            <a:endCxn id="195" idx="0"/>
          </p:cNvCxnSpPr>
          <p:nvPr/>
        </p:nvCxnSpPr>
        <p:spPr>
          <a:xfrm>
            <a:off x="4419720" y="3033720"/>
            <a:ext cx="41976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3659760" y="27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31262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50560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1830960" y="487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4410360" y="27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702600" y="343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31150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4105800" y="4862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2581560" y="487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3397680" y="488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4267080"/>
            <a:ext cx="3124080" cy="762120"/>
          </a:xfrm>
          <a:prstGeom prst="wedgeRoundRectCallout">
            <a:avLst>
              <a:gd name="adj1" fmla="val -54777"/>
              <a:gd name="adj2" fmla="val 8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weighted average code length is not affect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386240" y="3192480"/>
            <a:ext cx="430056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192480"/>
            <a:ext cx="3809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yte-Oriented Huffman Code :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assigned to each text word is a sequence of whole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degree 256(=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stead of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32148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97656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2743200" y="397656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51008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451008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51008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451008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34" name=""/>
          <p:cNvCxnSpPr>
            <a:stCxn id="227" idx="2"/>
            <a:endCxn id="228" idx="7"/>
          </p:cNvCxnSpPr>
          <p:nvPr/>
        </p:nvCxnSpPr>
        <p:spPr>
          <a:xfrm flipH="1">
            <a:off x="1337400" y="3328920"/>
            <a:ext cx="56772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7" idx="6"/>
            <a:endCxn id="229" idx="1"/>
          </p:cNvCxnSpPr>
          <p:nvPr/>
        </p:nvCxnSpPr>
        <p:spPr>
          <a:xfrm>
            <a:off x="2133720" y="3328920"/>
            <a:ext cx="64332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6" name=""/>
          <p:cNvSpPr/>
          <p:nvPr/>
        </p:nvSpPr>
        <p:spPr>
          <a:xfrm flipH="1">
            <a:off x="1763640" y="3421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014560" y="3454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2090880" y="3443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39" name=""/>
          <p:cNvCxnSpPr>
            <a:stCxn id="228" idx="3"/>
            <a:endCxn id="230" idx="0"/>
          </p:cNvCxnSpPr>
          <p:nvPr/>
        </p:nvCxnSpPr>
        <p:spPr>
          <a:xfrm flipH="1">
            <a:off x="837720" y="4171680"/>
            <a:ext cx="3391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28" idx="5"/>
            <a:endCxn id="231" idx="0"/>
          </p:cNvCxnSpPr>
          <p:nvPr/>
        </p:nvCxnSpPr>
        <p:spPr>
          <a:xfrm>
            <a:off x="1338120" y="4171680"/>
            <a:ext cx="3391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29" idx="3"/>
            <a:endCxn id="232" idx="0"/>
          </p:cNvCxnSpPr>
          <p:nvPr/>
        </p:nvCxnSpPr>
        <p:spPr>
          <a:xfrm flipH="1">
            <a:off x="2437920" y="4171680"/>
            <a:ext cx="3391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"/>
          <p:cNvCxnSpPr>
            <a:stCxn id="229" idx="5"/>
            <a:endCxn id="233" idx="0"/>
          </p:cNvCxnSpPr>
          <p:nvPr/>
        </p:nvCxnSpPr>
        <p:spPr>
          <a:xfrm>
            <a:off x="2938320" y="4171680"/>
            <a:ext cx="3391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2209680" y="3638520"/>
            <a:ext cx="1981440" cy="304920"/>
          </a:xfrm>
          <a:prstGeom prst="wedgeRoundRectCallout">
            <a:avLst>
              <a:gd name="adj1" fmla="val -53606"/>
              <a:gd name="adj2" fmla="val -432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4 empty nod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815000"/>
            <a:ext cx="1143000" cy="533160"/>
          </a:xfrm>
          <a:prstGeom prst="wedgeRoundRectCallout">
            <a:avLst>
              <a:gd name="adj1" fmla="val -8333"/>
              <a:gd name="adj2" fmla="val -70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6 ele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044360" y="4194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42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420516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1014120" y="4362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653920" y="4357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4815000"/>
            <a:ext cx="1143000" cy="533160"/>
          </a:xfrm>
          <a:prstGeom prst="wedgeRoundRectCallout">
            <a:avLst>
              <a:gd name="adj1" fmla="val -8333"/>
              <a:gd name="adj2" fmla="val -70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6 ele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1447560" y="53481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optimal tre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6161040" y="32148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5018040" y="3824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4484520" y="442908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5322960" y="442908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56" name=""/>
          <p:cNvCxnSpPr>
            <a:stCxn id="252" idx="2"/>
            <a:endCxn id="253" idx="7"/>
          </p:cNvCxnSpPr>
          <p:nvPr/>
        </p:nvCxnSpPr>
        <p:spPr>
          <a:xfrm flipH="1">
            <a:off x="5213160" y="3328560"/>
            <a:ext cx="94824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2" idx="6"/>
            <a:endCxn id="258" idx="0"/>
          </p:cNvCxnSpPr>
          <p:nvPr/>
        </p:nvCxnSpPr>
        <p:spPr>
          <a:xfrm>
            <a:off x="6389640" y="3328920"/>
            <a:ext cx="175320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3" idx="3"/>
            <a:endCxn id="254" idx="0"/>
          </p:cNvCxnSpPr>
          <p:nvPr/>
        </p:nvCxnSpPr>
        <p:spPr>
          <a:xfrm flipH="1">
            <a:off x="4712760" y="4019400"/>
            <a:ext cx="33912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53" idx="5"/>
            <a:endCxn id="255" idx="0"/>
          </p:cNvCxnSpPr>
          <p:nvPr/>
        </p:nvCxnSpPr>
        <p:spPr>
          <a:xfrm>
            <a:off x="5213160" y="4019400"/>
            <a:ext cx="3387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7467480" y="4205160"/>
            <a:ext cx="1143000" cy="609840"/>
          </a:xfrm>
          <a:prstGeom prst="wedgeRoundRectCallout">
            <a:avLst>
              <a:gd name="adj1" fmla="val -32777"/>
              <a:gd name="adj2" fmla="val -6354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254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408560" y="4815000"/>
            <a:ext cx="1143000" cy="533160"/>
          </a:xfrm>
          <a:prstGeom prst="wedgeRoundRectCallout">
            <a:avLst>
              <a:gd name="adj1" fmla="val -7222"/>
              <a:gd name="adj2" fmla="val -639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6 ele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41720" y="4041720"/>
            <a:ext cx="13032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5094360" y="40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5170320" y="40528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4889160" y="4281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6019560" y="534816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al tre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7075440" y="389556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7913520" y="389556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7479720" y="3595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70" name=""/>
          <p:cNvCxnSpPr>
            <a:stCxn id="252" idx="6"/>
            <a:endCxn id="268" idx="0"/>
          </p:cNvCxnSpPr>
          <p:nvPr/>
        </p:nvCxnSpPr>
        <p:spPr>
          <a:xfrm>
            <a:off x="6389640" y="3328920"/>
            <a:ext cx="91512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6389640" y="38386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72" name=""/>
          <p:cNvCxnSpPr>
            <a:stCxn id="252" idx="5"/>
            <a:endCxn id="271" idx="0"/>
          </p:cNvCxnSpPr>
          <p:nvPr/>
        </p:nvCxnSpPr>
        <p:spPr>
          <a:xfrm>
            <a:off x="6356520" y="3409560"/>
            <a:ext cx="1483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627520" y="4143240"/>
            <a:ext cx="304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008760" y="4143240"/>
            <a:ext cx="3045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75" name=""/>
          <p:cNvCxnSpPr>
            <a:stCxn id="271" idx="2"/>
            <a:endCxn id="273" idx="0"/>
          </p:cNvCxnSpPr>
          <p:nvPr/>
        </p:nvCxnSpPr>
        <p:spPr>
          <a:xfrm flipH="1">
            <a:off x="5779440" y="3952440"/>
            <a:ext cx="6102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71" idx="3"/>
            <a:endCxn id="274" idx="0"/>
          </p:cNvCxnSpPr>
          <p:nvPr/>
        </p:nvCxnSpPr>
        <p:spPr>
          <a:xfrm flipH="1">
            <a:off x="6160680" y="4033800"/>
            <a:ext cx="26280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7" name=""/>
          <p:cNvSpPr/>
          <p:nvPr/>
        </p:nvSpPr>
        <p:spPr>
          <a:xfrm>
            <a:off x="6508800" y="407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6618240" y="3976560"/>
            <a:ext cx="30492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6530400" y="40672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4560840" y="3367080"/>
            <a:ext cx="1447920" cy="304920"/>
          </a:xfrm>
          <a:prstGeom prst="wedgeRoundRectCallout">
            <a:avLst>
              <a:gd name="adj1" fmla="val 40351"/>
              <a:gd name="adj2" fmla="val 1557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 ele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5932440" y="4662360"/>
            <a:ext cx="1371600" cy="609840"/>
          </a:xfrm>
          <a:prstGeom prst="wedgeRoundRectCallout">
            <a:avLst>
              <a:gd name="adj1" fmla="val 15046"/>
              <a:gd name="adj2" fmla="val -98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4 empty nod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 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yte-Oriented Huffman Code :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faster because bit shifts and masking operations aren’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decrease of the compression ratio is experienced when the symbols are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searching on compressed text i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resolves approximate compressed pattern matching problem such as phrases, ranges, complements, wild cards, regular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ctionary Meth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asic Concep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ing groups of consecutive symbols with a pointer to an entry in a 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inter representations are references to entries in a dictionary composed of a list of symbols that are expected to occur 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s to the dictionary entries are chosen so that they need less space than the phrase they 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ing and Coding does not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 explicit probabilities associated to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1  Introdu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mproving the precision of the documents retriev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Document 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Building of a Thesau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Document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mproving the efficiency of the retrieval proc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Text Compr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ctionary Meth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Static Dictionary Metho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lected pairs of letters are replaced with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) Digram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t each step the next two characters are inspected and verified if they correspond to a digram in the 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f so, they are coded together and the coding position is shifted by two characters; otherwise, the single character is represented by its normal code and the position is shifted by on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he dictionary might be suitable for one text and unsuitable for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ctionary Meth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Adaptive Dictionary Method (Ziv-Lempe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lacing strings of characters with a reference to a previous occurrence of the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f the pointer to an earlier occurrence of a string is stored in fewer bits than the string it replaces then compression is achie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advantages over the Huffma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on’t allow decoding to start in the middle of a compress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ictionary schemes are still popular for their speed and economy of memory, but the new results in statistical methods make them the method of choice in an IR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The interest in dictionary methods will eventually decrea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erted File Compre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asic 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rted 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For each term, there are Doc#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 be considered as a sequence of gaps between Doc#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ps are small for frequent words and large for infrequent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ble 7.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ary Code fo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ex) 3 = 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 one bits  followed by a zero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ias-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γ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fo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ex) 5 = 1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code for                   and binary cod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ias-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δ fo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ex) 5 = 1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code for                  and binary cod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200400" y="5029200"/>
                <a:ext cx="1015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6292800" y="4952880"/>
                <a:ext cx="1022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200400" y="5715000"/>
                <a:ext cx="1015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324480" y="5715000"/>
                <a:ext cx="1022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4648320" y="4800600"/>
            <a:ext cx="27432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4038480"/>
            <a:ext cx="13716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7010280" y="4184640"/>
                <a:ext cx="7621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4  Text Compression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erted File Compre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Golomb Metho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 For some parameter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Golomb Code for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nary code for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+1, follow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, binary code for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1 followed by binary code fo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,                         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x)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9 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or each ter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ery effective when the probability distribution is geometric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44640" y="2502000"/>
                <a:ext cx="1177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791320" y="2854440"/>
                <a:ext cx="1155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3716280" y="37814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4343400"/>
            <a:ext cx="1752480" cy="609480"/>
          </a:xfrm>
          <a:prstGeom prst="wedgeRoundRectCallout">
            <a:avLst>
              <a:gd name="adj1" fmla="val 35689"/>
              <a:gd name="adj2" fmla="val -6354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544840" y="4457880"/>
                <a:ext cx="17222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362320" y="3289320"/>
                <a:ext cx="1295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848040" y="3289320"/>
                <a:ext cx="1600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673520" y="4343400"/>
            <a:ext cx="1752840" cy="609480"/>
          </a:xfrm>
          <a:prstGeom prst="wedgeRoundRectCallout">
            <a:avLst>
              <a:gd name="adj1" fmla="val -31069"/>
              <a:gd name="adj2" fmla="val -6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4419720"/>
                <a:ext cx="16765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971800" y="5094360"/>
                <a:ext cx="1698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5  Comparing Text Compression Techniq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aring Text Compression Techniq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62120" y="2286000"/>
          <a:ext cx="7696080" cy="3790800"/>
        </p:xfrm>
        <a:graphic>
          <a:graphicData uri="http://schemas.openxmlformats.org/drawingml/2006/table">
            <a:tbl>
              <a:tblPr/>
              <a:tblGrid>
                <a:gridCol w="2317680"/>
                <a:gridCol w="1428840"/>
                <a:gridCol w="1315800"/>
                <a:gridCol w="1317600"/>
                <a:gridCol w="1316160"/>
              </a:tblGrid>
              <a:tr h="5540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r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harHu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WordHu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Z.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mp.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ry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ry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mp.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ry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comp.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ry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o-KR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ry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mory 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mpressed P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andom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6  Trends and Research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cument Process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conclusive evidence that text operations yield consistent improvements in retrieval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aurus-based techniques might be quite useful with the highly interactive interfaces being developed for modern digital library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ext Compress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requires less storage space, takes less time to be transmitted, and permits efficient direct and sequential access to compressed 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-based byte Huffman compression shows great promise as an effective compression scheme for modern IR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Lexical Analysis of the tex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Elimination of Stopwor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Stemm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Index Term Sel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Thesaur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Text Operations for Document Preprocessing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xical Analysis of the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reating digits, hyphens, punctuation marks, the case of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imination of stop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iltering out the useless words for retrieval purp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emming of the remaining wo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ealing with the syntactic variations of query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index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etermining the terms to be used as index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struction of term categorizatio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llowing the expansion of the original query with related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 particular ca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not good index terms because of its vagu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needs some advanced lexical analysis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)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510B.C. , 4105-1201-2310-2213, 2000/2/12, …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ph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ing up hyphenated words might be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)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state-of-the-art </a:t>
            </a:r>
            <a:r>
              <a:rPr b="0" i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 state of the art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Good!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But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B-49 </a:t>
            </a:r>
            <a:r>
              <a:rPr b="0" i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 B 49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(???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needs to adopt a general rule and to specify the exception on a case by case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xical Analysis of the Tex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nctuation 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moved enti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Ex) 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510B.C </a:t>
            </a:r>
            <a:r>
              <a:rPr b="0" i="1" lang="ko-K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 510B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If the query contains ‘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510B.C’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, remove of the dot both in query term and in the documents will not affect retrieval performan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quire the preparation of a list of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Ex) 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val.id </a:t>
            </a:r>
            <a:r>
              <a:rPr b="0" i="1" lang="ko-K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 valid 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(???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Case of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nverts all the text to either lower or upper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art of the semantics might b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Korea University </a:t>
            </a:r>
            <a:r>
              <a:rPr b="0" i="1" lang="ko-K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 korea university 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(???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xical Analysis of the Tex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asic 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ing out words with very low discrimination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)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a, the, this, that, where, when, …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vant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ing the size of the indexing structure consider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advant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ight reduce the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)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o be or not to b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imination of Stopwo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Times New Roman"/>
              </a:rPr>
              <a:t>What is the “stem”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he portion of a word which is left after the removal of its affixes(ie., prefixes and suffi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Ex) ‘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connect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’ is the stem for the variants ‘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connected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’, ‘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connecting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’, ‘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’, ‘</a:t>
            </a:r>
            <a:r>
              <a:rPr b="0" i="1" lang="ko-KR" sz="1800" spc="-1" strike="noStrike">
                <a:solidFill>
                  <a:srgbClr val="000066"/>
                </a:solidFill>
                <a:latin typeface="Times New Roman"/>
              </a:rPr>
              <a:t>connections</a:t>
            </a:r>
            <a:r>
              <a:rPr b="0" lang="ko-KR" sz="1800" spc="-1" strike="noStrike">
                <a:solidFill>
                  <a:srgbClr val="000066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7.2  Document Preprocessing</a:t>
            </a:r>
            <a:br>
              <a:rPr sz="3600"/>
            </a:b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mm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733920"/>
            <a:ext cx="7924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Effect of stemm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duce variants of the same root word to a common concep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duce the size of the indexing struc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ut, there is controversy about the benefits of ste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08:17:38Z</dcterms:created>
  <dc:creator/>
  <dc:description/>
  <dc:language>en-US</dc:language>
  <cp:lastModifiedBy>최중민</cp:lastModifiedBy>
  <dcterms:modified xsi:type="dcterms:W3CDTF">2001-03-05T13:14:53Z</dcterms:modified>
  <cp:revision>649</cp:revision>
  <dc:subject/>
  <dc:title>Chapter 7</dc:title>
</cp:coreProperties>
</file>