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CF81-E756-4EAB-954F-966D0F516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abacb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E554-4E8B-4F27-955E-23E24F01A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abacb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D700-076C-48BF-91B4-1454B3576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abacb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4C8C-9570-4141-8299-674385408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E099F-86EF-4B35-8749-85774022A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abacb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76F24-E915-4E14-B8B9-67E716268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abacb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E9BD4-2DAD-478C-B820-ACCF66805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abacb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6B3E9-108B-48D1-9CB7-9CB9D609E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abac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FDE53-BE81-471B-82C6-DC7B401B1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3B018-C3F3-4AC3-AB1B-4F5DD86CA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abacb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B457B-5077-4C9B-A4F1-A9A4DE9E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abacb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3BFE-86DD-4123-B585-F7ADD73B8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abacb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25D1C-9E6C-4EC1-8E86-EC0C747D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abacb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27399-540C-449B-B71A-D7F0925E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abacb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24F45-88E5-4318-8209-5F82D8196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abacb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24BAB-C18E-4BE5-B245-7131E37F3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abacb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C0C28-21C0-4864-8322-D0125876A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08EFE-5C38-4C83-8C0F-F7E4F99AA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abacb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B1B7F-1B0F-457F-96F5-FDCDD22EC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abacb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50D54-E96E-4434-A1B1-A2DC3A32F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abacb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29D4F-C123-4F62-AF14-99814FC36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abac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96FD7-4645-42DC-B803-5CFF2AD6D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abacb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273B-B34E-4671-98F8-6AF3E6AB3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491A1-E045-4014-8327-796E67AFC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abacb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0AC46-96B4-4763-8AF8-69F69937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abacb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2253F-9621-4288-821B-2DC4443E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abacb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6934B-BBDB-4A0E-8034-2796412A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abacb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3865C-C6E7-4E94-B84C-FF509FF12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abacb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32295-2821-4720-8377-C07139B8F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abacb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07CBB-A4C3-4AF7-9DA0-9C7E8E7AA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83BE4-B58A-43D6-AC89-3CFFC25D2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abacb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9F574-C37B-47B4-9637-D31823778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abacb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90A08-0764-43C0-812B-45E567949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abacb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6D89-A460-470A-A889-4995ACA3F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abacb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EABA7-CED3-4AAB-A6FF-6CFE21B19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abac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E5A10-5DB0-472C-9E5B-DA0E49AA7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4D1C4-0822-4C56-B276-C1C9E165E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abacb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96FB5-3907-4534-AB76-07BC79A2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abacb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C94EE-3C7F-46AB-9BDE-4E1196EE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abacb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86591-EBCA-4F3F-94B6-9B557D54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abacb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1DEE4-0ED6-404B-8448-E78AB001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abacb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6CF51-129B-4E31-ADDC-925DAA0E3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abacb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D6495-91E6-46B6-BBFD-9003C8577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3B48A-0006-4206-A6EF-A35C9BE7B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abac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71CB-8ED1-4B4E-AA51-741BAE81C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abacb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2A2EF-57CF-4E0E-ACDE-9F200D9C7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abacb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25E47-8FCF-49F1-977D-155952438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abacb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F72C3-CCA7-4BC4-8D20-0B6D97416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abac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2F20B-8F57-44AA-ACAE-6DC866378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FBB70-F97B-45CB-BF57-D5193F717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abacb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BCC0A-C4BC-4389-BDA9-4D05FC45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abacb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10C7A-B379-4E31-A6BA-5B45A35A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abacb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C7773-4479-4247-8FAA-7D3843C2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abacb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3DA9C-ED0C-408E-B4ED-7D9B27C8E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abacb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4303F-2F67-425B-B06E-09F7009DB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5934-EC15-4E12-96AB-CB4877DCC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abacb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79F324-68C3-4BE1-BBC7-6BCC91B27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473A5-9999-408E-98C4-91FA1D1B9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abacb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6D9CA1-E215-4872-B174-6E6B26105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abacb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1C3AC-A2C7-4B77-9B7B-80523E87E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abacb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0A9A6-961F-41C9-9426-75774C536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abac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0ED01-8C2A-4392-BEBB-025401B0B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5163E-DE8D-44DE-94AB-17411BE25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abacb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29781-14A8-433A-81DB-3B66211A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abacb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6868D-B278-4D8B-ACD9-F1EEAB98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abacb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03482-C3B6-4E1E-A0DF-FE50703D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abacb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6B6B-D6F3-42A7-9464-AEB80D32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abacb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29A4E-A22C-4EEB-BFA5-D8D5E61C6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abacb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DA475-7773-485C-84C7-A7EC2B473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abacb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55D754-3F44-4863-8802-84A65688A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37FF8-B71C-4614-AE0C-C18F88A88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abacb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5E6036-0163-49E6-8483-9423F4D99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abacb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85E79C-6FEF-4E23-9058-33658DCED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abacb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C02E0-92DA-4A57-A159-69EC31B51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abac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D9D5F7-9C9F-4B5E-A63C-8183430ED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0343F4-C6AC-4718-ADA8-A7DC1E1AC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abacb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BD52E-24FC-4111-876A-14CF77CE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abacb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57DA-D6F0-45AD-B48A-1720C5D3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abacb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E0DD1-EDCA-447D-91F3-F982B288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abacb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23538-1092-4D55-A318-08045F40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abacb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24FE1A-4C7D-41F8-9DFD-1D624C998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abacb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52DF5-6FB5-4B65-86EE-F713F87BB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abacb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A46B4-2661-4F43-A0FE-D1F490AEB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abacb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AB9E-6519-4AA0-BDAC-A613A072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2828"/>
            </a:gs>
            <a:gs pos="100000">
              <a:srgbClr val="7878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4d2d0">
                  <a:alpha val="1176"/>
                </a:srgbClr>
              </a:gs>
              <a:gs pos="100000">
                <a:srgbClr val="d4d2d0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7b7b7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fbfbf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abac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abacb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6ea0b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6ea0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6ea0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3bec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0A929-4AEA-49BC-849C-E33490751898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2828"/>
            </a:gs>
            <a:gs pos="100000">
              <a:srgbClr val="7878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4d2d0">
                  <a:alpha val="1176"/>
                </a:srgbClr>
              </a:gs>
              <a:gs pos="100000">
                <a:srgbClr val="d4d2d0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7b7b7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fbfbf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9 Triángulo isósceles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326170"/>
              </a:gs>
              <a:gs pos="100000">
                <a:srgbClr val="9bcadc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abac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abacb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6ea0b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6ea0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6ea0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3bec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65AC1-40E6-48E6-A61D-107FCE1C6865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2828"/>
            </a:gs>
            <a:gs pos="100000">
              <a:srgbClr val="7878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4d2d0">
                  <a:alpha val="1176"/>
                </a:srgbClr>
              </a:gs>
              <a:gs pos="100000">
                <a:srgbClr val="d4d2d0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7b7b7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fbfbf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abac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abacb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6ea0b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6ea0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6ea0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3bec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89D9E-CDD4-4EF9-9D3E-73DC96B685CA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9 Triángulo rectángulo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4d2d0">
                  <a:alpha val="1176"/>
                </a:srgbClr>
              </a:gs>
              <a:gs pos="100000">
                <a:srgbClr val="d4d2d0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11 Triángulo isósceles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326170"/>
              </a:gs>
              <a:gs pos="100000">
                <a:srgbClr val="9bcadc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12 Conector recto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fbfbf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14 Conector recto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7b7b7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abac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abacb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6ea0b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6ea0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6ea0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3bec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2BD40-DDA4-4D5E-B130-345CADE3E94F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2828"/>
            </a:gs>
            <a:gs pos="100000">
              <a:srgbClr val="7878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abac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abacb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6ea0b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6ea0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6ea0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3bec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45917-E4A1-441A-8E1A-529918293826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2828"/>
            </a:gs>
            <a:gs pos="100000">
              <a:srgbClr val="7878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abac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abacb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6ea0b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6ea0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6ea0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3bec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7F3BF-0D93-4AA6-B782-CB2272E243D3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abac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abacb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6ea0b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6ea0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6ea0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3bec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5016B-5647-41FE-B923-47D9246477F6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hyperlink" Target="http://people.revoledu.com/kardi/tutorial/kMean/NumericalExample.htm" TargetMode="External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hyperlink" Target="http://people.revoledu.com/kardi/tutorial/kMean/NumericalExample.htm" TargetMode="External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1 Título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071200" cy="1481400"/>
          </a:xfrm>
          <a:prstGeom prst="rect">
            <a:avLst/>
          </a:prstGeom>
          <a:ln w="0">
            <a:noFill/>
          </a:ln>
        </p:spPr>
      </p:pic>
      <p:pic>
        <p:nvPicPr>
          <p:cNvPr id="302" name="2 Subtítulo" descr=""/>
          <p:cNvPicPr/>
          <p:nvPr/>
        </p:nvPicPr>
        <p:blipFill>
          <a:blip r:embed="rId2"/>
          <a:stretch/>
        </p:blipFill>
        <p:spPr>
          <a:xfrm>
            <a:off x="682560" y="3425760"/>
            <a:ext cx="816948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1 Título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37872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El resultado depende de la inicialización de los centroide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No se puede asegurar que de buenos resultado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Nota: se puede correr varias veces el algoritmo para minimizar los malos resultado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1 Título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26" name="3 Marcador de contenido" descr="Algorithm_clip_image002_0002.gif"/>
          <p:cNvPicPr/>
          <p:nvPr/>
        </p:nvPicPr>
        <p:blipFill>
          <a:blip r:embed="rId2"/>
          <a:stretch/>
        </p:blipFill>
        <p:spPr>
          <a:xfrm>
            <a:off x="2362320" y="1523880"/>
            <a:ext cx="5029200" cy="5000760"/>
          </a:xfrm>
          <a:prstGeom prst="rect">
            <a:avLst/>
          </a:prstGeom>
          <a:ln w="0">
            <a:noFill/>
          </a:ln>
        </p:spPr>
      </p:pic>
      <p:sp>
        <p:nvSpPr>
          <p:cNvPr id="327" name="5 Rectángulo"/>
          <p:cNvSpPr/>
          <p:nvPr/>
        </p:nvSpPr>
        <p:spPr>
          <a:xfrm>
            <a:off x="380880" y="648828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8c3"/>
                </a:solidFill>
                <a:uFillTx/>
                <a:latin typeface="Arial"/>
                <a:hlinkClick r:id="rId3"/>
              </a:rPr>
              <a:t>http://people.revoledu.com/kardi/tutorial/kMean/NumericalExample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1 Título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9" name=""/>
          <p:cNvGraphicFramePr/>
          <p:nvPr/>
        </p:nvGraphicFramePr>
        <p:xfrm>
          <a:off x="304920" y="1600200"/>
          <a:ext cx="4572000" cy="182880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Obje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tributo 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tributo 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edicina 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edicina 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edicina 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edicina 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</a:tbl>
          </a:graphicData>
        </a:graphic>
      </p:graphicFrame>
      <p:pic>
        <p:nvPicPr>
          <p:cNvPr id="330" name="4 Imagen" descr="NumericalExample_clip_image002_0001.gif"/>
          <p:cNvPicPr/>
          <p:nvPr/>
        </p:nvPicPr>
        <p:blipFill>
          <a:blip r:embed="rId2"/>
          <a:stretch/>
        </p:blipFill>
        <p:spPr>
          <a:xfrm>
            <a:off x="4648320" y="2630520"/>
            <a:ext cx="4228920" cy="3951360"/>
          </a:xfrm>
          <a:prstGeom prst="rect">
            <a:avLst/>
          </a:prstGeom>
          <a:ln w="0">
            <a:noFill/>
          </a:ln>
        </p:spPr>
      </p:pic>
      <p:sp>
        <p:nvSpPr>
          <p:cNvPr id="331" name="5 Rectángulo"/>
          <p:cNvSpPr/>
          <p:nvPr/>
        </p:nvSpPr>
        <p:spPr>
          <a:xfrm>
            <a:off x="0" y="6095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8c3"/>
                </a:solidFill>
                <a:uFillTx/>
                <a:latin typeface="Arial"/>
                <a:hlinkClick r:id="rId3"/>
              </a:rPr>
              <a:t>http://people.revoledu.com/kardi/tutorial/kMean/NumericalExample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1 Título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33" name="3 Marcador de contenido" descr="NumericalExample_clip_image012.gif"/>
          <p:cNvPicPr/>
          <p:nvPr/>
        </p:nvPicPr>
        <p:blipFill>
          <a:blip r:embed="rId2"/>
          <a:stretch/>
        </p:blipFill>
        <p:spPr>
          <a:xfrm>
            <a:off x="2209680" y="1828800"/>
            <a:ext cx="4416480" cy="1676520"/>
          </a:xfrm>
          <a:prstGeom prst="rect">
            <a:avLst/>
          </a:prstGeom>
          <a:ln w="0">
            <a:noFill/>
          </a:ln>
        </p:spPr>
      </p:pic>
      <p:pic>
        <p:nvPicPr>
          <p:cNvPr id="334" name="5 Imagen" descr="NumericalExample_clip_image008_0000.gif"/>
          <p:cNvPicPr/>
          <p:nvPr/>
        </p:nvPicPr>
        <p:blipFill>
          <a:blip r:embed="rId3"/>
          <a:stretch/>
        </p:blipFill>
        <p:spPr>
          <a:xfrm>
            <a:off x="1981080" y="3962520"/>
            <a:ext cx="952560" cy="380880"/>
          </a:xfrm>
          <a:prstGeom prst="rect">
            <a:avLst/>
          </a:prstGeom>
          <a:ln w="0">
            <a:noFill/>
          </a:ln>
        </p:spPr>
      </p:pic>
      <p:sp>
        <p:nvSpPr>
          <p:cNvPr id="335" name="6 Flecha derecha"/>
          <p:cNvSpPr/>
          <p:nvPr/>
        </p:nvSpPr>
        <p:spPr>
          <a:xfrm>
            <a:off x="3124080" y="3962520"/>
            <a:ext cx="1067040" cy="380880"/>
          </a:xfrm>
          <a:prstGeom prst="rightArrow">
            <a:avLst>
              <a:gd name="adj1" fmla="val 50000"/>
              <a:gd name="adj2" fmla="val 50025"/>
            </a:avLst>
          </a:prstGeom>
          <a:solidFill>
            <a:srgbClr val="6ea0b0"/>
          </a:solidFill>
          <a:ln w="2556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6" name="7 Imagen" descr="NumericalExample_clip_image014.gif"/>
          <p:cNvPicPr/>
          <p:nvPr/>
        </p:nvPicPr>
        <p:blipFill>
          <a:blip r:embed="rId4"/>
          <a:stretch/>
        </p:blipFill>
        <p:spPr>
          <a:xfrm>
            <a:off x="4343400" y="3886200"/>
            <a:ext cx="2438280" cy="433440"/>
          </a:xfrm>
          <a:prstGeom prst="rect">
            <a:avLst/>
          </a:prstGeom>
          <a:ln w="0">
            <a:noFill/>
          </a:ln>
        </p:spPr>
      </p:pic>
      <p:pic>
        <p:nvPicPr>
          <p:cNvPr id="337" name="8 Imagen" descr="NumericalExample_clip_image018.gif"/>
          <p:cNvPicPr/>
          <p:nvPr/>
        </p:nvPicPr>
        <p:blipFill>
          <a:blip r:embed="rId5"/>
          <a:stretch/>
        </p:blipFill>
        <p:spPr>
          <a:xfrm>
            <a:off x="2666880" y="4724280"/>
            <a:ext cx="3795840" cy="1295640"/>
          </a:xfrm>
          <a:prstGeom prst="rect">
            <a:avLst/>
          </a:prstGeom>
          <a:ln w="0">
            <a:noFill/>
          </a:ln>
        </p:spPr>
      </p:pic>
      <p:sp>
        <p:nvSpPr>
          <p:cNvPr id="338" name="9 Rectángulo"/>
          <p:cNvSpPr/>
          <p:nvPr/>
        </p:nvSpPr>
        <p:spPr>
          <a:xfrm>
            <a:off x="1752480" y="3809880"/>
            <a:ext cx="5181840" cy="685800"/>
          </a:xfrm>
          <a:prstGeom prst="rect">
            <a:avLst/>
          </a:prstGeom>
          <a:noFill/>
          <a:ln w="25560">
            <a:solidFill>
              <a:srgbClr val="fcf4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11 Rectángulo"/>
          <p:cNvSpPr/>
          <p:nvPr/>
        </p:nvSpPr>
        <p:spPr>
          <a:xfrm>
            <a:off x="533520" y="6488280"/>
            <a:ext cx="80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people.revoledu.com/kardi/tutorial/kMean/NumericalExample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1 Título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Resultado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2" name="3 Imagen" descr="NumericalExample_clip_image002_0003.gif"/>
          <p:cNvPicPr/>
          <p:nvPr/>
        </p:nvPicPr>
        <p:blipFill>
          <a:blip r:embed="rId2"/>
          <a:stretch/>
        </p:blipFill>
        <p:spPr>
          <a:xfrm>
            <a:off x="3048120" y="1828800"/>
            <a:ext cx="4495680" cy="4200480"/>
          </a:xfrm>
          <a:prstGeom prst="rect">
            <a:avLst/>
          </a:prstGeom>
          <a:ln w="0">
            <a:noFill/>
          </a:ln>
        </p:spPr>
      </p:pic>
      <p:sp>
        <p:nvSpPr>
          <p:cNvPr id="343" name="5 Rectángulo"/>
          <p:cNvSpPr/>
          <p:nvPr/>
        </p:nvSpPr>
        <p:spPr>
          <a:xfrm>
            <a:off x="990720" y="6211800"/>
            <a:ext cx="73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people.revoledu.com/kardi/tutorial/kMean/NumericalExample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1 Título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498160" cy="154764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just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Century Gothic"/>
              </a:rPr>
              <a:t>Es un algoritmo aglomerativo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just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Century Gothic"/>
              </a:rPr>
              <a:t>Se parte de que cada documento forma un cluster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just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Century Gothic"/>
              </a:rPr>
              <a:t>En la primera iteración, los dos documentos más semejantes se unen para formar un nuevo cluster. Los dos clusters, en este caso documentos, que se unen son eliminados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just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Century Gothic"/>
              </a:rPr>
              <a:t>En cada iteración se forma un nuevo cluster a partir de dos clusters previamente creados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just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Century Gothic"/>
              </a:rPr>
              <a:t>La condición de parada es que el número de clusters sea igual a 1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1 Título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ffffff"/>
                </a:solidFill>
                <a:latin typeface="Century Gothic"/>
              </a:rPr>
              <a:t>Algoritmo simpl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ffffff"/>
                </a:solidFill>
                <a:latin typeface="Century Gothic"/>
              </a:rPr>
              <a:t>Solo requiere los objetos a agrupar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ffffff"/>
                </a:solidFill>
                <a:latin typeface="Century Gothic"/>
              </a:rPr>
              <a:t>Es no supervisado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ffffff"/>
                </a:solidFill>
                <a:latin typeface="Century Gothic"/>
              </a:rPr>
              <a:t>Puede trabajar con muchos datos al formar un árbol (jerarquía)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1 Título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ffffff"/>
                </a:solidFill>
                <a:latin typeface="Century Gothic"/>
              </a:rPr>
              <a:t>No asegura excelentes resultados al ser un algoritmo automático basado en medidas de similaridad y distancia, las cuales pueden fallar con respecto al lenguaje natural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ffffff"/>
                </a:solidFill>
                <a:latin typeface="Century Gothic"/>
              </a:rPr>
              <a:t>Al tener que reconstruir las matrices y manejar árboles, requiere mayor procesamientos si se compara con k-mean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1 Título" descr=""/>
          <p:cNvPicPr/>
          <p:nvPr/>
        </p:nvPicPr>
        <p:blipFill>
          <a:blip r:embed="rId1"/>
          <a:stretch/>
        </p:blipFill>
        <p:spPr>
          <a:xfrm>
            <a:off x="450720" y="2127240"/>
            <a:ext cx="824256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1 Título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just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ffffff"/>
                </a:solidFill>
                <a:latin typeface="Century Gothic"/>
              </a:rPr>
              <a:t>El clustering es una forma lógica de representación de documentos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just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ffffff"/>
                </a:solidFill>
                <a:latin typeface="Century Gothic"/>
              </a:rPr>
              <a:t>Se generan de forma automática, por lo que a causa de ambigüedades propias del lenguaje natural, se corre el riesgo de que la representación lograda no sea fiel a la realidad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just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ffffff"/>
                </a:solidFill>
                <a:latin typeface="Century Gothic"/>
              </a:rPr>
              <a:t>En RI, el estudio de las técnicas de clustering forman parte de las investigaciones para las mejoras de la recuperación de información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just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ffffff"/>
                </a:solidFill>
                <a:latin typeface="Century Gothic"/>
              </a:rPr>
              <a:t>Motores de búsqueda como</a:t>
            </a:r>
            <a:r>
              <a:rPr b="0" lang="es-ES" sz="2600" spc="-1" strike="noStrike">
                <a:solidFill>
                  <a:srgbClr val="ffffff"/>
                </a:solidFill>
                <a:latin typeface="Century Gothic"/>
              </a:rPr>
              <a:t> Clusty.com o iBoogie.com, usan esta técnica para mostrar los documentos en categorías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1 Título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Definición de clustering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Uso de clustering en RI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Algoritmo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6ea0b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entury Gothic"/>
              </a:rPr>
              <a:t>K-Mean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6ea0b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entury Gothic"/>
              </a:rPr>
              <a:t>HAC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Muestra de la aplicació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Conclusion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ffffff"/>
                </a:solidFill>
                <a:latin typeface="Century Gothic"/>
              </a:rPr>
              <a:t>Bibliografía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1 Título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just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Century Gothic"/>
              </a:rPr>
              <a:t>Álvarez, Javier. “Recuperación y organización de la información: Clustering”. Página principal de geocities. URL: http://es.geocities.com/clusteringrecuperacion/clustering.htm. Mayo, 2008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just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900" spc="-1" strike="noStrike">
                <a:solidFill>
                  <a:srgbClr val="ffffff"/>
                </a:solidFill>
                <a:latin typeface="Century Gothic"/>
              </a:rPr>
              <a:t>Marcos Mora, Carmen. “</a:t>
            </a:r>
            <a:r>
              <a:rPr b="0" lang="es-ES" sz="1900" spc="-1" strike="noStrike">
                <a:solidFill>
                  <a:srgbClr val="ffffff"/>
                </a:solidFill>
                <a:latin typeface="Century Gothic"/>
              </a:rPr>
              <a:t>Browsing y clustering: dos técnicas en auge para la recuperación de información </a:t>
            </a:r>
            <a:r>
              <a:rPr b="0" lang="es-CR" sz="1900" spc="-1" strike="noStrike">
                <a:solidFill>
                  <a:srgbClr val="ffffff"/>
                </a:solidFill>
                <a:latin typeface="Century Gothic"/>
              </a:rPr>
              <a:t>”. Página principal de mcmarcos. URL: </a:t>
            </a:r>
            <a:r>
              <a:rPr b="0" lang="es-ES" sz="1900" spc="-1" strike="noStrike">
                <a:solidFill>
                  <a:srgbClr val="ffffff"/>
                </a:solidFill>
                <a:latin typeface="Century Gothic"/>
              </a:rPr>
              <a:t>www.mcmarcos.com/pdf/2004_</a:t>
            </a:r>
            <a:r>
              <a:rPr b="1" lang="es-ES" sz="1900" spc="-1" strike="noStrike">
                <a:solidFill>
                  <a:srgbClr val="ffffff"/>
                </a:solidFill>
                <a:latin typeface="Century Gothic"/>
              </a:rPr>
              <a:t>browsing</a:t>
            </a:r>
            <a:r>
              <a:rPr b="0" lang="es-ES" sz="1900" spc="-1" strike="noStrike">
                <a:solidFill>
                  <a:srgbClr val="ffffff"/>
                </a:solidFill>
                <a:latin typeface="Century Gothic"/>
              </a:rPr>
              <a:t>-</a:t>
            </a:r>
            <a:r>
              <a:rPr b="1" lang="es-ES" sz="1900" spc="-1" strike="noStrike">
                <a:solidFill>
                  <a:srgbClr val="ffffff"/>
                </a:solidFill>
                <a:latin typeface="Century Gothic"/>
              </a:rPr>
              <a:t>modd</a:t>
            </a:r>
            <a:r>
              <a:rPr b="0" lang="es-ES" sz="1900" spc="-1" strike="noStrike">
                <a:solidFill>
                  <a:srgbClr val="ffffff"/>
                </a:solidFill>
                <a:latin typeface="Century Gothic"/>
              </a:rPr>
              <a:t>.pdf. 2004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just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Century Gothic"/>
              </a:rPr>
              <a:t>Teknomo, Kardi. “</a:t>
            </a: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Numerical Example of K-Means Clustering”. Página principal de Kardi Teknomo’s Page. URL: http://people.revoledu.com/kardi/tutorial/kMean/NumericalExample.htm. Mayo, 2008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Century Gothic"/>
              </a:rPr>
              <a:t>Wikipedia. “Cluster analysis”. Página pricipal de Wikipedia. URL: http://en.wikipedia.org/wiki/Data_clustering. Mayo, 2008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1 Título" descr=""/>
          <p:cNvPicPr/>
          <p:nvPr/>
        </p:nvPicPr>
        <p:blipFill>
          <a:blip r:embed="rId1"/>
          <a:stretch/>
        </p:blipFill>
        <p:spPr>
          <a:xfrm>
            <a:off x="450720" y="2432160"/>
            <a:ext cx="824256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1 Título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finición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 algn="just">
              <a:spcBef>
                <a:spcPts val="649"/>
              </a:spcBef>
              <a:buClr>
                <a:srgbClr val="6ea0b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entury Gothic"/>
              </a:rPr>
              <a:t>Clasificación de objetos en diferentes grupos, o más precisamente, la partición de un conjunto de datos en subconjuntos (clusters), de modo que los datos de cada subconjunto compartan algunos rasgos comunes. A menudo comparten  proximidad de acuerdo con la definición de alguna medida de distancia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1 Título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just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Permite que la recuperación se de mediante la agrupación de documentos que satisfacen una serie de propiedades comunes a una consulta dada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just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El objetivo es agrupar los documentos relacionados entre ellos y así asegurarse que todos los documentos recuperados están relacionados con la consulta del usuario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1 Título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ffffff"/>
                </a:solidFill>
                <a:latin typeface="Century Gothic"/>
              </a:rPr>
              <a:t>Jerárquico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 algn="just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entury Gothic"/>
              </a:rPr>
              <a:t>Generan los clusters a partir de clusters previamente establecidos: HAC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 algn="just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ffffff"/>
                </a:solidFill>
                <a:latin typeface="Century Gothic"/>
              </a:rPr>
              <a:t>Puede ser: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 algn="just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Century Gothic"/>
              </a:rPr>
              <a:t>Descendente </a:t>
            </a:r>
            <a:r>
              <a:rPr b="0" lang="es-CR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R" sz="2400" spc="-1" strike="noStrike">
                <a:solidFill>
                  <a:srgbClr val="ffffff"/>
                </a:solidFill>
                <a:latin typeface="Century Gothic"/>
              </a:rPr>
              <a:t> divisible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 algn="just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Century Gothic"/>
              </a:rPr>
              <a:t>Ascendente </a:t>
            </a:r>
            <a:r>
              <a:rPr b="0" lang="es-CR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R" sz="2400" spc="-1" strike="noStrike">
                <a:solidFill>
                  <a:srgbClr val="ffffff"/>
                </a:solidFill>
                <a:latin typeface="Century Gothic"/>
              </a:rPr>
              <a:t> aglomerativo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 algn="just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just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ffffff"/>
                </a:solidFill>
                <a:latin typeface="Century Gothic"/>
              </a:rPr>
              <a:t>Particional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 algn="just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600" spc="-1" strike="noStrike">
                <a:solidFill>
                  <a:srgbClr val="ffffff"/>
                </a:solidFill>
                <a:latin typeface="Century Gothic"/>
              </a:rPr>
              <a:t>Determinan todos los clusters a la vez: </a:t>
            </a:r>
            <a:r>
              <a:rPr b="0" i="1" lang="es-CR" sz="2600" spc="-1" strike="noStrike">
                <a:solidFill>
                  <a:srgbClr val="ffffff"/>
                </a:solidFill>
                <a:latin typeface="Century Gothic"/>
              </a:rPr>
              <a:t>k</a:t>
            </a:r>
            <a:r>
              <a:rPr b="0" lang="es-CR" sz="2600" spc="-1" strike="noStrike">
                <a:solidFill>
                  <a:srgbClr val="ffffff"/>
                </a:solidFill>
                <a:latin typeface="Century Gothic"/>
              </a:rPr>
              <a:t>-means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1 Título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10"/>
          <p:cNvSpPr/>
          <p:nvPr/>
        </p:nvSpPr>
        <p:spPr>
          <a:xfrm>
            <a:off x="1375560" y="20574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entury Gothic"/>
              </a:rPr>
              <a:t>Aglomera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11"/>
          <p:cNvSpPr/>
          <p:nvPr/>
        </p:nvSpPr>
        <p:spPr>
          <a:xfrm>
            <a:off x="5837760" y="213372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entury Gothic"/>
              </a:rPr>
              <a:t>Divi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Picture 7" descr=""/>
          <p:cNvPicPr/>
          <p:nvPr/>
        </p:nvPicPr>
        <p:blipFill>
          <a:blip r:embed="rId2"/>
          <a:stretch/>
        </p:blipFill>
        <p:spPr>
          <a:xfrm>
            <a:off x="304920" y="2971800"/>
            <a:ext cx="3998880" cy="27734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8" descr=""/>
          <p:cNvPicPr/>
          <p:nvPr/>
        </p:nvPicPr>
        <p:blipFill>
          <a:blip r:embed="rId3"/>
          <a:stretch/>
        </p:blipFill>
        <p:spPr>
          <a:xfrm>
            <a:off x="4952880" y="2971800"/>
            <a:ext cx="4038840" cy="2658960"/>
          </a:xfrm>
          <a:prstGeom prst="rect">
            <a:avLst/>
          </a:prstGeom>
          <a:ln w="0">
            <a:noFill/>
          </a:ln>
        </p:spPr>
      </p:pic>
      <p:sp>
        <p:nvSpPr>
          <p:cNvPr id="316" name="Line 12"/>
          <p:cNvSpPr/>
          <p:nvPr/>
        </p:nvSpPr>
        <p:spPr>
          <a:xfrm>
            <a:off x="4724280" y="2362320"/>
            <a:ext cx="0" cy="38098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1 Título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4" descr=""/>
          <p:cNvPicPr/>
          <p:nvPr/>
        </p:nvPicPr>
        <p:blipFill>
          <a:blip r:embed="rId2"/>
          <a:stretch/>
        </p:blipFill>
        <p:spPr>
          <a:xfrm>
            <a:off x="1633680" y="2089080"/>
            <a:ext cx="5876640" cy="41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1 Título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Algoritmo particional: va iterando sobre los documentos y los va partiendo en </a:t>
            </a:r>
            <a:r>
              <a:rPr b="0" i="1" lang="es-ES" sz="3000" spc="-1" strike="noStrike">
                <a:solidFill>
                  <a:srgbClr val="ffffff"/>
                </a:solidFill>
                <a:latin typeface="Century Gothic"/>
              </a:rPr>
              <a:t>clusters</a:t>
            </a: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Es un algoritmo no supervisado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Necesita conocer de antemano la cantidad de clusters a crear: ‘</a:t>
            </a:r>
            <a:r>
              <a:rPr b="0" i="1" lang="es-ES" sz="3000" spc="-1" strike="noStrike">
                <a:solidFill>
                  <a:srgbClr val="ffffff"/>
                </a:solidFill>
                <a:latin typeface="Century Gothic"/>
              </a:rPr>
              <a:t>k</a:t>
            </a: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’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Utiliza centroides, a partir de los cuales se establece la pertenencia de un documento a un </a:t>
            </a:r>
            <a:r>
              <a:rPr b="0" i="1" lang="es-ES" sz="3000" spc="-1" strike="noStrike">
                <a:solidFill>
                  <a:srgbClr val="ffffff"/>
                </a:solidFill>
                <a:latin typeface="Century Gothic"/>
              </a:rPr>
              <a:t>cluster</a:t>
            </a: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1 Título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Algoritmo sencillo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Rápido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entury Gothic"/>
              </a:rPr>
              <a:t>Se puede usar con grandes cantidades de dato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3:27:18Z</dcterms:created>
  <dc:creator>Leonor Anglada</dc:creator>
  <dc:description/>
  <dc:language>en-US</dc:language>
  <cp:lastModifiedBy>Karol Cordero</cp:lastModifiedBy>
  <dcterms:modified xsi:type="dcterms:W3CDTF">2008-05-14T21:16:31Z</dcterms:modified>
  <cp:revision>52</cp:revision>
  <dc:subject/>
  <dc:title>Clustering</dc:title>
</cp:coreProperties>
</file>