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12D3-2C2F-4F82-A51A-3C7C46BE4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0E4E-2639-4D3B-AC4A-53BD52B9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8ED2-9FA2-4D11-A562-A810DE39C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73F6-6366-4DCD-B9A9-FE0FF5C7F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AB18-7074-48DE-B932-0C3797CF3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3514-5869-4444-A3E9-369912BA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CF8B-8BD4-4E0C-8E8A-153F0A99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37E5-BBA6-443E-8447-7D82E2F3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4538-C658-49C8-8294-2D94F5EB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6298-20EA-4510-A1FB-3FAC233B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5343-4F39-4291-A85B-BB8F7C6F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C0BA-DCA9-4B6A-8F25-82A9C9BA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C065-57BD-41D7-A62F-011C530C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FD3F-118F-4E23-82C8-1E947F0B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5A78-649E-4936-B501-A19C634C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B9F3-2879-4527-AE79-75E6B59F0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7B28-CA3D-4686-85BD-9D9AB2C95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386D-D61A-4B55-85EC-4D8D6EE0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252C-6378-4383-853E-CFE60B0B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5671-4AF2-4A3B-82C3-BA68AC96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1C35-B7B0-41BF-949C-CDC7DBF2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A5A1-658C-4F25-88C0-12805BAE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850D-E8F2-428A-A351-3420FB62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250E-A343-49CB-8EA3-DEFCB3BD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EAAD-B36F-4DB7-B80D-3FF36F0F1D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4CCD-05A7-4761-B3E4-735FF55D00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333399"/>
                </a:solidFill>
                <a:latin typeface="Arial"/>
              </a:rPr>
              <a:t>Exposición: Cluste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Arial"/>
              </a:rPr>
              <a:t>Juan de Dios Murillo More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Arial"/>
              </a:rPr>
              <a:t>A3752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Miércoles 9 de Junio,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376640" y="609480"/>
            <a:ext cx="68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333399"/>
                </a:solidFill>
                <a:latin typeface="Arial"/>
              </a:rPr>
              <a:t>Universidad de Costa 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rocedimiento de oper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as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impiar” los documen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Identificar los clusters b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ombinar los clusters b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Limpiar” los document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 cadena de texto que representa cada documentos es   transformado haciendo uso de un algoritmo de stemm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eliminan los prefijos y sufijo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pasa de plural a singul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eliminan los tags así como signos de puntuació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Identificar los clusters b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tá compuesto de una 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raíz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que direcciona el árb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da nodo interno 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tiene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dos hijos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da línea entre nodos está 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etiquetada con un sub-string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del string(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inguna de las aristas fuera del mismo nodo pueden tener las etiquetas que comiencen con la misma palab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uede verse como la creación de un 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índice invertido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Identificar los clusters base(cont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38080" y="3429000"/>
          <a:ext cx="7772400" cy="30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429000"/>
                    <a:ext cx="7772400" cy="30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2362320" y="3809880"/>
            <a:ext cx="45720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2209680"/>
            <a:ext cx="129528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752480"/>
            <a:ext cx="1523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lusters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Combinar los clusters b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2120" y="2819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os documentos pueden compartir más de una fras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os  documentos de distintas bases pueden aplicar overla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990720" y="3886200"/>
          <a:ext cx="716256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86200"/>
                    <a:ext cx="71625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3124080" y="6324480"/>
            <a:ext cx="266724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Tahoma"/>
              </a:rPr>
              <a:t>Clustering de clustering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457200" y="3124080"/>
          <a:ext cx="853452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124080"/>
                    <a:ext cx="853452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Diagrama del árbol de sufij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1600200" y="1752480"/>
            <a:ext cx="548640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das las siguientes caden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cf0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dena1: “cat ate chees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cf0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dena2: “mouse ate cheese too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cf0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dena3: “cat ate mouse too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57800" y="1752480"/>
            <a:ext cx="2819520" cy="10670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Objetivo:</a:t>
            </a: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 Agrupar documentos qu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compartan temas comune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333399"/>
                </a:solidFill>
                <a:latin typeface="Arial"/>
              </a:rPr>
              <a:t>Experimento #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o de frases para identificar los cluster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 clusters usan overlapp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2 % de los documentos fueron puestos en más de un clust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 trabajaron 10 colecciones de documentos de 200 documento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752480" y="3352680"/>
          <a:ext cx="4876920" cy="350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352680"/>
                    <a:ext cx="487692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333399"/>
                </a:solidFill>
                <a:latin typeface="Arial"/>
              </a:rPr>
              <a:t>Experimento #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frases son claves  para identificar los clusters así como también el overla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362320" y="3048120"/>
          <a:ext cx="441648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3048120"/>
                    <a:ext cx="441648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333399"/>
                </a:solidFill>
                <a:latin typeface="Arial"/>
              </a:rPr>
              <a:t>Experimento #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uso de frases son claves en STC y el de palabras   en el de GAH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diferencia de K-Means entre el uso de frases y no uso de las mismas es más pequeño en relación con el de S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209680" y="3200400"/>
          <a:ext cx="436428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200400"/>
                    <a:ext cx="43642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333399"/>
                </a:solidFill>
                <a:latin typeface="Arial"/>
              </a:rPr>
              <a:t>Experimento # 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impacto de K-Means y Buckshot en relación a overlap es considerablemente pequeñ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590920" y="2819520"/>
          <a:ext cx="3643200" cy="403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819520"/>
                    <a:ext cx="36432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333399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Qué es clustering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Conceptos importantes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Algunos algoritmos utiliz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El algoritmo de árbol de sufijos(S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Resultados y evaluaciones de algoritmos de clust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Conclusion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333399"/>
                </a:solidFill>
                <a:latin typeface="Arial"/>
              </a:rPr>
              <a:t>Experimento # 4 (cont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los documentos aparecen en múltiples clust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) Es ventajoso si el doc es releva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-) Es desventajoso si el documento es irrelevant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828800" y="3657600"/>
          <a:ext cx="11201400" cy="197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657600"/>
                    <a:ext cx="1120140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333399"/>
                </a:solidFill>
                <a:latin typeface="Arial"/>
              </a:rPr>
              <a:t>Propuesta de artículo de investig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mplementar un algoritmo de los descritos y hacer un análisis de resultados en términos de tiempo, precisión, agrupamiento de documentos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333399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El clustering es un método de recuparar la información a través del agrupamiento de documentos en base a temas específ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Una secuencia ordenada de palabras es mucho más significativas que simples palabras clav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El uso del custering facilitaría al usuario localizar rapidamente la información espera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El STC es mucho más rápido que el uso tradicional de cluster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cias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0663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Motivaci</a:t>
            </a:r>
            <a:r>
              <a:rPr b="0" lang="es-CR" sz="4400" spc="-1" strike="noStrike">
                <a:solidFill>
                  <a:srgbClr val="333399"/>
                </a:solidFill>
                <a:latin typeface="Arial"/>
              </a:rPr>
              <a:t>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365760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0000"/>
                </a:solidFill>
                <a:latin typeface="Arial"/>
              </a:rPr>
              <a:t>Problema:</a:t>
            </a:r>
            <a:r>
              <a:rPr b="0" lang="es-CR" sz="2000" spc="-1" strike="noStrike">
                <a:solidFill>
                  <a:srgbClr val="3333cc"/>
                </a:solidFill>
                <a:latin typeface="Arial"/>
              </a:rPr>
              <a:t> La baja precisión del Web </a:t>
            </a:r>
            <a:r>
              <a:rPr b="0" lang="es-CR" sz="2000" spc="-1" strike="noStrike">
                <a:solidFill>
                  <a:srgbClr val="ffcf01"/>
                </a:solidFill>
                <a:latin typeface="Arial"/>
              </a:rPr>
              <a:t>search engine</a:t>
            </a:r>
            <a:r>
              <a:rPr b="0" lang="es-CR" sz="2000" spc="-1" strike="noStrike">
                <a:solidFill>
                  <a:srgbClr val="3333cc"/>
                </a:solidFill>
                <a:latin typeface="Arial"/>
              </a:rPr>
              <a:t> hace dificil para el usuario la tarea  de localizar rapidamente la información espe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0000"/>
                </a:solidFill>
                <a:latin typeface="Arial"/>
              </a:rPr>
              <a:t>Solu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Web Document Clus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333399"/>
                </a:solidFill>
                <a:latin typeface="Arial"/>
              </a:rPr>
              <a:t>Qué es  Clustering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Es un método alternativo que permite organizar los resultados obtenidos a través de grupos de documentos(cluster base) tomando en cuenta algún tópico en espec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Según el artículo es una técnica para presentar los documentos despúes de haberlos recuperado en grupos pequeños que están relacionados por un tema en espec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333399"/>
                </a:solidFill>
                <a:latin typeface="Arial"/>
              </a:rPr>
              <a:t>Modelo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3886200"/>
            <a:ext cx="1143000" cy="609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2819520"/>
            <a:ext cx="1828800" cy="228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819520"/>
            <a:ext cx="1600200" cy="1447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09" idx="2"/>
            <a:endCxn id="110" idx="2"/>
          </p:cNvCxnSpPr>
          <p:nvPr/>
        </p:nvCxnSpPr>
        <p:spPr>
          <a:xfrm flipH="1" rot="16200000">
            <a:off x="4133880" y="1618920"/>
            <a:ext cx="610560" cy="6363360"/>
          </a:xfrm>
          <a:prstGeom prst="bentConnector3">
            <a:avLst>
              <a:gd name="adj1" fmla="val 137463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13" name=""/>
          <p:cNvSpPr/>
          <p:nvPr/>
        </p:nvSpPr>
        <p:spPr>
          <a:xfrm>
            <a:off x="2895480" y="4952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qu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"/>
          <p:cNvCxnSpPr>
            <a:stCxn id="110" idx="1"/>
            <a:endCxn id="111" idx="3"/>
          </p:cNvCxnSpPr>
          <p:nvPr/>
        </p:nvCxnSpPr>
        <p:spPr>
          <a:xfrm rot="10800000">
            <a:off x="5028480" y="3542760"/>
            <a:ext cx="1677240" cy="419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5" name=""/>
          <p:cNvCxnSpPr>
            <a:stCxn id="111" idx="1"/>
            <a:endCxn id="109" idx="3"/>
          </p:cNvCxnSpPr>
          <p:nvPr/>
        </p:nvCxnSpPr>
        <p:spPr>
          <a:xfrm flipV="1" rot="10800000">
            <a:off x="1828080" y="3542400"/>
            <a:ext cx="1600920" cy="648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16" name=""/>
          <p:cNvSpPr/>
          <p:nvPr/>
        </p:nvSpPr>
        <p:spPr>
          <a:xfrm>
            <a:off x="1828800" y="3124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333399"/>
                </a:solidFill>
                <a:latin typeface="Arial"/>
              </a:rPr>
              <a:t>Requerimientos principal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0000"/>
                </a:solidFill>
                <a:latin typeface="Arial"/>
              </a:rPr>
              <a:t>Relevance: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 método que produce clusters que agrupan los documentos relevantes separandolos de los irreleva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0000"/>
                </a:solidFill>
                <a:latin typeface="Arial"/>
              </a:rPr>
              <a:t>Browsable Summaries: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 Cuando el usuario necesita determinar si los contenidos de un cluster son de interés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0000"/>
                </a:solidFill>
                <a:latin typeface="Arial"/>
              </a:rPr>
              <a:t>Overlap: 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Es importante por que se asigna un documento a más de un clust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0000"/>
                </a:solidFill>
                <a:latin typeface="Arial"/>
              </a:rPr>
              <a:t>Snippets : 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Lista de documentos ordenadas por orden de relevancia, relativamente pequeñ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333399"/>
                </a:solidFill>
                <a:latin typeface="Arial"/>
              </a:rPr>
              <a:t>Ejemplo #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429000" y="1905120"/>
            <a:ext cx="5486400" cy="46479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33520" y="1981080"/>
            <a:ext cx="27432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mpartir frases en un clustering es una forma de resumir su conteni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Algunos algoritmos utiliza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295280" y="34290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Single-Pass: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es el 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más popular de los algoritmos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incrementales, sin embargo tiene tendencia a producir clusters larg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K-means: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permite aplicar overlapping y es una aproximación de GAH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Buckshot y Fractionation :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son 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más rápido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que los dos primer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STC: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árbol de sufijos, a diferencia de los anteriores tratan a los documentos como una 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secuencia ordenada de palab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uffix Tree Clustering (STC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 un algoritmo de cluster de tiempo lineal, que está basado en el árbol de sufijos y el cual con eficiencia identifica el 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conjunto de documentos que comparten frases comu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STC trata los 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documentos como un conjunto de strings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y  hace uso de información próxima entre palab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Resume el contenido de los clusters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para los usuari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 bastante 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rápido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por que trabaja con un 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conjunto pequeño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de 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documentos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en forma incremental e independiente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2T05:39:02Z</dcterms:created>
  <dc:creator>George</dc:creator>
  <dc:description/>
  <dc:language>en-US</dc:language>
  <cp:lastModifiedBy>wolf</cp:lastModifiedBy>
  <dcterms:modified xsi:type="dcterms:W3CDTF">2004-06-12T22:51:13Z</dcterms:modified>
  <cp:revision>112</cp:revision>
  <dc:subject/>
  <dc:title>Recuperación de Información  Lematización</dc:title>
</cp:coreProperties>
</file>