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8FDD-8C49-413E-9AC2-18A2E00CD3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. Ribert, A. Ennaji, Y. Lecourtier, “Clustering data: Dealing with high density variations”,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ith the smallest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here the longest distance between their furthest points is minimized (so a merger will have the smallest circum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 the clusters which would have the smallest average distance when they are me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ith the closest centr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uda and Hart “Pattern classification and scene analysis”, p. 2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user must pre-specify the desired number of clus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 that the quality of the clustering is highly dependent on the initial cluster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A78-3EB3-47D4-8A69-BB8F6498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32F-E44B-4532-9183-A0657E9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5C6-410E-4CAC-9808-AB29A82A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7E0-C4BC-4422-AAE9-4DFB0531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695-5668-4772-9B59-BA86D8D3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EEFC-30DC-4F7E-9D32-571DC27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568-F8FD-484A-9B39-7D46FC4B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607-369B-4CD1-A8E8-FF76DD54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07D-7601-4B0A-8200-4E19F52D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50AB-CB5C-48F3-A933-DE381D7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2A87-C585-4848-BAAD-06F4EA8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7FA-B3ED-461F-B82F-691C30F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521E-9B8F-4C58-813C-CE63A8C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F435-9F87-4958-BC94-7329F81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323-7A3E-4D32-843A-B32CF943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6F3F-4490-4E51-8983-7132E951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399-BA64-4ADA-9839-F83B655C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8C4-8CE5-4601-9D6F-8D3D384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D72-DE51-4F70-AC1B-F11777C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D6B-9D79-43C8-B9D6-45CE61D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3EA-D857-4C31-A9B8-8CB17BE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DC7-D44D-4F2A-8E57-C2AEAC1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029-6564-43A8-9441-F8659A0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7BE-2FC4-40E0-857E-B99B5FB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ctur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895480" y="63244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ge </a:t>
            </a:r>
            <a:fld id="{3C4DF6C5-0753-4C87-8A79-868F085605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CF1F-44FE-4223-B88F-2A0F02491E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ocument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l Stae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297180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A99-7B9E-4EE5-9A7B-4E7B24B18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2819520"/>
            <a:ext cx="1522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97180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54C-1A06-4ACF-B31E-6BB9E49AA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 agglomerative clustering gives a hierarchy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akes it easier to explore the set of possible k-cluster values to choose the best number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5562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5562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10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943600" y="54100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3600" y="541008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95880" y="54100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553080" y="52574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705720" y="52574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62920" y="480024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43800" y="4952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848720" y="5105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77320" y="5105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924680" y="49528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9920" y="4648320"/>
            <a:ext cx="0" cy="761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858000" y="464796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696080" y="44956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086600" y="4191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00800" y="44956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44956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4952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51055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46483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48006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0828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7400" y="4648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828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5EE-5BB4-45C0-B507-8E59FF3F8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“correct”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248520" y="3276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657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2004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5053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771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276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4952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4495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4800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8660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0120" y="4038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4648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102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41911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2895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362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2514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24480" y="4800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2209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4191120"/>
            <a:ext cx="8380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213372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35053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32004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3962520"/>
            <a:ext cx="91440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708-380A-4C62-B8B1-D40C6EA2DD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“correct”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-generated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3276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530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3657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32004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053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3276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3600" y="3124080"/>
            <a:ext cx="8380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4952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24480" y="4495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4800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120" y="4038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1520" y="4648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012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01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1520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152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1911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2895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362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2514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24480" y="4800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2209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191120"/>
            <a:ext cx="8380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2057400"/>
            <a:ext cx="7621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10280" y="4114800"/>
            <a:ext cx="381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438280"/>
            <a:ext cx="53352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4038480"/>
            <a:ext cx="6094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7C0-1A63-43AC-BCF1-D898EA61C1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yb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HAC and iterative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points to initial clusters using H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candidat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best”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mov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7DD-0735-4F0C-BBB6-33B0461FE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Bottlen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528-2434-4FA1-8C1A-36D09C62A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509-A52D-418C-B449-844A2859DB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ard to rapidly understand a big bucket of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look for patterns, and are good at pattern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” collections of documents don’t have a recognizabl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documents into recognizable groups makes it easier to se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apidly eliminate irrelevant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42F-82DD-453B-9C9C-235AD46D4F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document similarity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cluster cost criter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171-F504-4C60-98A1-D155435BA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410080" y="2514600"/>
            <a:ext cx="83844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document similarity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cluster cost or similarity criter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like documents into clusters with minimal cluster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42900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419112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A27-CFBA-419B-BE73-4C5C3B97B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uster Cost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-of-squared-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squared d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= (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232-643D-4F61-9629-60ED56C7C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uster Similarity Meas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similarity of two clusters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mi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ma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1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||(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34E-7B45-4221-BAB5-A2A225947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 points to initi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u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is is done by random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candidat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best”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mov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26C-876E-4574-A606-F431B3BF9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ser must pre-select the number of clu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e “correct” number is not known in adva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quality of the outcome is usually dependent on the quality of the initial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y use some other algorithm to create a good initial assign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268-159C-4B15-947A-2DBE10C36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97180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9E6-8B00-46D8-AAA1-D12CAC9FE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 Staelin</cp:lastModifiedBy>
  <dcterms:modified xsi:type="dcterms:W3CDTF">2001-04-25T09:28:36Z</dcterms:modified>
  <cp:revision>21</cp:revision>
  <dc:subject/>
  <dc:title>PowerPoint Presentation</dc:title>
</cp:coreProperties>
</file>