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31F2-A5ED-4885-8D8F-124B5E68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3EAB-1B4F-4AAB-AD85-6C615EF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4D36-D84D-40C0-B18A-2837B1D7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0320"/>
            <a:ext cx="25023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D2EE-EDE0-4FF8-80F1-D78F8E03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54D9-F716-45FB-AD21-9344E05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CBA9-4A37-458F-AE16-75EBC56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5FDE-2745-4A0B-96BD-5FE7ADE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E870-0827-4FA3-A4E2-E9D77C2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36CF-6093-4FA6-A4AA-021229C4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1D07-45A5-44B8-AEB0-697533A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032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5E38-B571-4D6C-B851-841632A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0320"/>
            <a:ext cx="777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3AC4-D79C-4364-B00C-B4C4C47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0C0-1D01-43AC-8B47-8CFE87A1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A9C2-0FDA-4C7F-9B9E-F40523AE33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x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ult in “straggly” (long and thin) clusters du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ining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ppropriate in some domains, such as clustering islands.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057400" y="1889280"/>
                <a:ext cx="43815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F9B6-F4F0-4099-ADAB-25C7F690E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gl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36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AC47-10FF-47EB-9B22-2772BB150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nimum similarity of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ore “tight,” spherical clusters that are typically pref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7400" y="1905120"/>
                <a:ext cx="4381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BA2E-F300-4B17-96D1-5E3119B65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te Link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58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B5CD-7D70-452F-AD02-78EC6034A7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ational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 iteration, all HAC methods need to compute similarity of all pai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instances which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 subsequ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erging iterations, it must compute the distance between the most recently created cluster and all other existing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intain an over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erformance, computing similarity to each other cluster must be done in constan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EC57-9FBB-4032-87EB-14C87F3FA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erg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imilarity of the resulting cluster to any other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be compu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l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lete Link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600200" y="3429000"/>
                <a:ext cx="6934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76520" y="4495680"/>
                <a:ext cx="687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F288-E9D4-4EA2-8534-3A5AFA6848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oup Average Agglomerat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verage similarity across all pairs within the merged cluster to measure the similarity of two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single and complet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d across all ordered pairs in the merged cluster instead of unordered pai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wo clust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y, I don’t really understa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66680" y="2590920"/>
                <a:ext cx="738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≠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2D36-EA8D-499D-85FF-E63F98C66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uting Group Average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cosine similarity and normalized vectors with uni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maintain sum of vectors in each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similarity of clusters in constan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3352680"/>
                <a:ext cx="1917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22320" y="5041800"/>
                <a:ext cx="7524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9B20-21F9-4C17-94E1-379C9CA73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-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must provide the number of desired 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 per clus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initial clusters based on thes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, repeatedly reallocating instances to different clusters to improve the overal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when clustering converges or after a fixed number of it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45DE-8E3E-414F-8F7E-3FD85229AF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instances are real-valued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based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ro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enter of 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mean of points in a clust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ment of instances to clusters is based on distance to the current cluster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2BE6-5CC5-44F9-9442-4E5C2670F8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unlabeled examples into disjoint subset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within a cluster are very simil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amples in different clusters are very differen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 new categories in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ner (no sample category labels provi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6A34-87D1-455B-A649-E744C1440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stance Metric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clidian distance 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ine Similarity (transform to a distance by subtracting from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7400" y="1752480"/>
                <a:ext cx="3137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133720" y="281952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4876920"/>
                <a:ext cx="23540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DD39-8023-4147-B9BB-6892DF312A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-Means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200" y="1676520"/>
            <a:ext cx="86907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istance measure between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dom instance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clustering converges or other stopping criter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mi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pdate the seeds to the centroid of each cluster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28BA-3BAF-48FC-B7AB-A06213724E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K Means Example</a:t>
            </a:r>
            <a:br>
              <a:rPr sz="36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K=2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0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217" name="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221" name="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233" name="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237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242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9876-4E2F-4EFB-9C75-2124179150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ime Complex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in all relevant factors, assuming a fixed number of iterations, more efficient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189B-9F49-4BA6-A81A-2AC3189F3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ed Choic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vary based on random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eds can result in poor convergence rate, or convergence to sub-optimal cluste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good seeds using a heuristic or the results of another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90D3-C53E-4AB9-A545-ECA6515994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Buckshot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HAC and K-Means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andomly take a sample of instances of siz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roup-average HAC on this sample, which takes only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esults of HAC as initial seeds for K-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algorithm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voids problems of bad seed se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2400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1CCA-0C27-4481-8532-545DE54198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ex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 and K-Means have been applied to text in a straightforward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F/IDF-weighted vectors and cosine simi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computations for sparse ve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Northernlight folders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la Yahoo &amp; DMOZ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2BE9-2A3C-45C8-861D-FBF79B37F2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ft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typically assumes that each instance is given a “hard” assignment to exactly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llow uncertainty in class membership or for an instance to belong to more than one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oft clust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s probabilities that an instance belongs to each of a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is assigned a probability distribution across a set of discovered categories (probabilities of all categories must sum to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6224-CB49-4D8A-A53D-E18ED9F8D6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ectation Maximumization (EM)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method for sof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thod that assu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us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a probabilistic model of categories that allows computing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ateg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a given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xt, typically assume a naïve-Bayes category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{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,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{1,…,|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|}}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65E-7E46-4B49-B814-09E41C3B7C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M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method for learning probabilistic categorization model from unsupervis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assume random assignment of examples to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n initial probabilistic model by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is randomly 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following two steps until converg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pectation (E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ompute P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each example given the current model, and probabilistically re-label the examples based on these posterior probability estimate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ximization (M-step):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e-estimate the model parameters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from the probabilistically re-labeled data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9032-DBB2-478C-9D4A-889BA1CF6C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ing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49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905120"/>
            <a:ext cx="4505760" cy="3385440"/>
            <a:chOff x="1523880" y="1905120"/>
            <a:chExt cx="4505760" cy="3385440"/>
          </a:xfrm>
        </p:grpSpPr>
        <p:sp>
          <p:nvSpPr>
            <p:cNvPr id="52" name=""/>
            <p:cNvSpPr/>
            <p:nvPr/>
          </p:nvSpPr>
          <p:spPr>
            <a:xfrm>
              <a:off x="1557360" y="2421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388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740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35053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3200" y="4191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37339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160" y="1905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05160" y="30481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3880" y="1523880"/>
            <a:ext cx="4505760" cy="3766320"/>
            <a:chOff x="1523880" y="1523880"/>
            <a:chExt cx="4505760" cy="3766320"/>
          </a:xfrm>
        </p:grpSpPr>
        <p:sp>
          <p:nvSpPr>
            <p:cNvPr id="68" name=""/>
            <p:cNvSpPr/>
            <p:nvPr/>
          </p:nvSpPr>
          <p:spPr>
            <a:xfrm>
              <a:off x="1557000" y="242064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388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3360" y="243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04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5640" y="36576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35049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2840" y="4190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62160" y="38862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37335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5680" y="2057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2840" y="32004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868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560" y="228600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160" y="1904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30477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cc33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440" y="15238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3070-DE54-49DD-A698-31A719D76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earning from Probabilistically Labeled Data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raining data labeled with “hard” category labels, training data is labeled with “soft” probabilistic category lab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stimating model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raining data, weight counts by the corresponding probability of the given category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8 and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,        eac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s only 0.8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0.2 towards the cou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D0C0-5383-4E78-B5CD-C04C59CCFA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ïve Bayes 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9360" y="1981080"/>
            <a:ext cx="8599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 examples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andard naïve-Bayes training to learn a probabilistic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convergence or until maximum number of iterations reac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the naïve Bayes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u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tegory and example, and re-label each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se probability values as soft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-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tandard naïve-Bayes training to re-estima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ew probabilistic category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4CA1-665A-403B-BC76-B8508A6B01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vised categorization, generating labeled training data is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unlabeled data to aid supervised categ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M in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mi-superv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 by training EM on both labeled and unlabel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 initial probabilistic model on user-labeled subset of data instead of randomly labeled unsupervised data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ser-labeled examples are “frozen” and never relabeled during EM iteration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abels of unsupervised data are constantly probabilistically relabeled by E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CA6-503D-418A-AB8F-32CEDAEFA4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ed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“quantum” is present in several labeled physics documents, but “Heisenberg” occu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labeled data, learn that “quantum” is indicative of a physic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abeling unsupervised data, label several documents with “quantum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eisenberg” correctly with the “physics”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training, learn that “Heisenberg” is also indicative of a physic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learned model is able to correctly assign documen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eisenberg” to phys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49FF-C668-4504-B259-93F9DE6594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mi-Supervision Resul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on assigning messages from 20 Usenet newsgroups their proper newsgroup l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very few labeled examples (2 examples per class), semi-supervised EM improved accuracy from 27% (supervised data only) to 43% (supervised + unsupervised d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labeled examples, semi-supervision can actually decrease accuracy, but refinements to standard EM can preven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emi-supervised EM to work, the “natural clustering of data” must be consistent with the desired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A821-8D56-439D-87F6-E9EDFCF000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tree-based hierarchical taxonom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a set of unlabeled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application of a standard clustering algorithm can produce a hierarchical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61040" y="2286000"/>
            <a:ext cx="5898600" cy="1980360"/>
            <a:chOff x="1661040" y="2286000"/>
            <a:chExt cx="5898600" cy="1980360"/>
          </a:xfrm>
        </p:grpSpPr>
        <p:sp>
          <p:nvSpPr>
            <p:cNvPr id="87" name=""/>
            <p:cNvSpPr/>
            <p:nvPr/>
          </p:nvSpPr>
          <p:spPr>
            <a:xfrm>
              <a:off x="4267080" y="2286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0680" y="2819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61040" y="342864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4920" y="281916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71760" y="2603160"/>
              <a:ext cx="1527120" cy="32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11840" y="2603160"/>
              <a:ext cx="101412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55520" y="3116160"/>
              <a:ext cx="139068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595600" y="3116160"/>
              <a:ext cx="750960" cy="43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6560" y="3116160"/>
              <a:ext cx="0" cy="50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6560" y="3116160"/>
              <a:ext cx="814320" cy="41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375160" y="3092040"/>
              <a:ext cx="55080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25960" y="310500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960" y="3116160"/>
              <a:ext cx="85284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752480" y="3733560"/>
              <a:ext cx="304920" cy="532800"/>
              <a:chOff x="1752480" y="3733560"/>
              <a:chExt cx="304920" cy="53280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1752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16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86000" y="3733560"/>
              <a:ext cx="304920" cy="532800"/>
              <a:chOff x="2286000" y="3733560"/>
              <a:chExt cx="304920" cy="532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28600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4980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124080" y="3733560"/>
              <a:ext cx="304920" cy="532800"/>
              <a:chOff x="3124080" y="3733560"/>
              <a:chExt cx="304920" cy="53280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31240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878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3733560"/>
              <a:ext cx="304920" cy="532800"/>
              <a:chOff x="4038480" y="3733560"/>
              <a:chExt cx="304920" cy="53280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4038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02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181480" y="3733560"/>
              <a:ext cx="304920" cy="532800"/>
              <a:chOff x="5181480" y="3733560"/>
              <a:chExt cx="304920" cy="5328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5181480" y="3733560"/>
                <a:ext cx="15264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45280" y="3742560"/>
                <a:ext cx="14112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0960" y="3733560"/>
              <a:ext cx="304560" cy="532800"/>
              <a:chOff x="5790960" y="3733560"/>
              <a:chExt cx="304560" cy="53280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57909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547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705360" y="3733560"/>
              <a:ext cx="304560" cy="532800"/>
              <a:chOff x="6705360" y="3733560"/>
              <a:chExt cx="304560" cy="53280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6705360" y="3733560"/>
                <a:ext cx="152280" cy="45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69160" y="3742560"/>
                <a:ext cx="140760" cy="52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ED5B-D541-4E93-9B87-72B0A0EF3A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glommerative vs. Divisive Cluster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glommer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thods start with each example in its own cluster and iteratively combine them to form larger and larger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al, 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eparate all examples immediately into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0863-340F-4E2F-B205-423C8A619F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Clustering Metho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rect clust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require a specification of the number of cluste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ustering evaluati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a real-value quality measure to a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clusters can be determined automatically by explicitly generating clusterings for multiple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hoosing the best result according to a clustering evalu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9C8E-E20E-453D-A683-02818A48D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ierarchical Agglomerative Clustering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HAC)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ity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determining the similarity of two in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all instances in a separate cluster and then repeatedly joins the two clusters that are most similar until there is only on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y of merging forms a binary tree or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D7FF-ECE7-468B-A63F-F1ECBF510A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AC Algorith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480" y="2209680"/>
            <a:ext cx="7401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ll instances in their own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re is only one clu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current clusters, determine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are most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single clu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F9D5-EEB2-491D-895D-7FB4786C84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uster Similar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imilarity function that determines the similarity of two instanc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ine similarity of document vecto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pute similarity of two clusters each possibly containing multiple insta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mo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Link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Similarity of two least similar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up Averag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Average similarity between members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7B3E-8364-4BF2-92FC-699CD55DE0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2:11:52Z</dcterms:created>
  <dc:creator>Raymond Mooney</dc:creator>
  <dc:description/>
  <dc:language>en-US</dc:language>
  <cp:lastModifiedBy> Raymond Mooney</cp:lastModifiedBy>
  <dcterms:modified xsi:type="dcterms:W3CDTF">2001-11-23T16:06:52Z</dcterms:modified>
  <cp:revision>75</cp:revision>
  <dc:subject/>
  <dc:title>Intelligent Information Retrieval and Web Search</dc:title>
</cp:coreProperties>
</file>