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F5ED-68AE-480A-9EBB-E0340623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AFA4-37F3-4F55-9F32-24DC47C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EB04-07C6-4CB5-AC8D-FEBD1C50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7453-9849-4B77-BF6F-BA5392BD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34D9-5F03-4A23-9386-EBEFBF67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CEA6-4E08-4C0F-819A-7B4D298F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C433-2074-4837-A454-B3B3967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FF89-3D44-4EAE-9A66-481A86D1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CB52-7DEF-482E-8B84-39F1094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0477-33A0-47AA-AD24-AE9F54B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82BA-4CF2-4BD6-88BB-2470680D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2B27-3E9B-4022-B8FB-6B78C8E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8879-0E36-4596-83FD-65220C64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49F0-A609-4019-83D3-F7D5695562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x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ult in “straggly” (long and thin) clusters du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ining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ropriate in some domains, such as clustering islands.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057400" y="1889280"/>
                <a:ext cx="43815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D1F9-D03E-434A-9582-5DE93C4407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36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B009-AD2F-4738-8CDA-36FA32C65F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n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ore “tight,” spherical clusters that are typically pref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7400" y="1905120"/>
                <a:ext cx="4381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AC4D-A405-49C0-99D1-2B79E58D2E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5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8469-47C8-4781-BFA8-0602CB7471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 iteration, all HAC methods need to compute similarity of all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ances which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 subsequ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erging iterations, it must compute the distance between the most recently created cluster and all other existing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intain an over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erformance, computing similarity to each other cluster must be done in consta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AC68-B84C-4BE2-B82F-94D764F5F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erg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imilarity of the resulting cluster to any other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be compu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l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t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600200" y="3429000"/>
                <a:ext cx="6934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76520" y="4495680"/>
                <a:ext cx="687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D429-2877-43A2-8DCF-6E3443B05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p Average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verage similarity across all pairs within the merged cluster to measure the similarity of two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single and complet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d across all ordered pairs in the merged cluster instead of unordered pai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wo clust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y, I don’t really understa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66680" y="2590920"/>
                <a:ext cx="738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≠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3C3E-A9E3-44F8-B7EC-9EE523274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Group Average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cosine similarity and normalized vectors with uni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maintain sum of vectors in each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similarity of clusters in constan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3352680"/>
                <a:ext cx="1917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22320" y="5041800"/>
                <a:ext cx="7524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AEA4-8DCA-43AB-8C51-CDC44212CC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must provide the number of desired 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 per clus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initial clusters based on thes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, repeatedly reallocating instances to different clusters to improve the overal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clustering converges or after a fixed number of it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88AB-1F49-417B-8327-B20F7E3646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instances are real-valued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ro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er of 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mean of points in a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ment of instances to clusters is based on distance to the current cluster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D757-47FE-4294-A2AD-7FDE49DA65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unlabeled examples into disjoint subset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within a cluster are very simil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in different clusters are very differ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new categories in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 (no sample category labels provi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A181-E905-4ECB-92C1-F7D5BD3F1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clidian distance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ine Similarity (transform to a distance by subtracting from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7400" y="1752480"/>
                <a:ext cx="3137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133720" y="281952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4876920"/>
                <a:ext cx="23540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3FF0-7421-485D-9D7E-1DC1A2A717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200" y="1676520"/>
            <a:ext cx="86907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istance measure between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dom instance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lustering converges or other stopping criter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mi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pdate the seeds to the centroid of each cluste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7AA5-EF26-4EE4-B64F-5D06F0A28F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Means Exampl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K=2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0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217" name="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221" name="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233" name="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237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242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61EF-53B4-4D06-AC93-7045096E58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 all relevant factors, assuming a fixed number of iterations, more efficient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3E4D-5347-40D3-A27D-D9AC2F3119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ed Choi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vary based on random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eds can result in poor convergence rate, or convergence to sub-optimal clus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good seeds using a heuristic or the results of another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0448-36E9-40DE-B495-721C2BFA34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ckshot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HAC and K-Means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andomly take a sample of instances of siz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roup-average HAC on this sample, which takes only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esults of HAC as initial seeds for K-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algorithm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voids problems of bad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2400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05DD-8F54-42F9-BB40-930A1C7FBA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 and K-Means have been applied to text in a straightforward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F/IDF-weighted vectors and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computations for spars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Northernlight folder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Yahoo &amp; DMOZ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BB93-ED1F-4437-87EA-F726C10BDF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f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typically assumes that each instance is given a “hard” assignment to exactly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uncertainty in class membership or for an instance to belong to more than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oft clust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probabilities that an instance belongs to each of a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is assigned a probability distribution across a set of discovered categories (probabilities of all categories must sum to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BA84-E258-4792-82EC-190BFFBD08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ctation Maximumization (E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method for sof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thod that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us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a probabilistic model of categories that allows computing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 given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xt, typically assume a naïve-Bayes categor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{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,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,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}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C7DB-EF5B-41B2-9866-46D70B5475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method for learning probabilistic categorization model from un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assume random assignment of examples to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n initial probabilistic model by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is randomly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following two steps until converg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ctation (E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mpute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example given the current model, and probabilistically re-label the examples based on these posterior probability estima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imization (M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-estimate the model parameters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from the probabilistically re-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6FC8-02D3-4D16-B91C-FA07D2BD8E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49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905120"/>
            <a:ext cx="4505760" cy="3385440"/>
            <a:chOff x="1523880" y="1905120"/>
            <a:chExt cx="4505760" cy="3385440"/>
          </a:xfrm>
        </p:grpSpPr>
        <p:sp>
          <p:nvSpPr>
            <p:cNvPr id="52" name=""/>
            <p:cNvSpPr/>
            <p:nvPr/>
          </p:nvSpPr>
          <p:spPr>
            <a:xfrm>
              <a:off x="1557360" y="2421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388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740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35053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3200" y="4191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37339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16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05160" y="3048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3880" y="1523880"/>
            <a:ext cx="4505760" cy="3766320"/>
            <a:chOff x="1523880" y="1523880"/>
            <a:chExt cx="4505760" cy="3766320"/>
          </a:xfrm>
        </p:grpSpPr>
        <p:sp>
          <p:nvSpPr>
            <p:cNvPr id="68" name=""/>
            <p:cNvSpPr/>
            <p:nvPr/>
          </p:nvSpPr>
          <p:spPr>
            <a:xfrm>
              <a:off x="1557000" y="242064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388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704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564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35049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2840" y="4190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37335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284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0516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3047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440" y="15238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0F2B-83DA-4731-9566-9C6338C0D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rom Probabilistically Labeled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raining data labeled with “hard” category labels, training data is labeled with “soft” probabilistic category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raining data, weight counts by the corresponding probability of the given category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8 and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,       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s only 0.8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0.2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7D91-D6E5-4C8A-8231-A8946FD5BD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9360" y="1981080"/>
            <a:ext cx="8599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 examples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andard naïve-Bayes training to learn a probabilist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convergence or until maximum number of iteration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naïve Bayes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tegory and example, and re-label each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se probability values as soft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tandard naïve-Bayes training to re-estima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ew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01EF-EA50-4924-BE84-BC803C9F02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categorization, generating labeled training data is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unlabeled data to aid supervised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M in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mi-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 by training EM on both labeled and un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initial probabilistic model on user-labeled subset of data instead of randomly labeled unsupervised data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ser-labeled examples are “frozen” and never relabeled during EM iter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nsupervised data are constantly probabilistically relabeled by E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9804-7351-40B2-BD54-D554CCF52F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“quantum” is present in several labeled physics documents, but “Heisenberg” occu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abeled data, learn that “quantum” is indicative of a physics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abeling unsupervised data, label several documents with “quantum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eisenberg” correctly with the “physics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training, learn that “Heisenberg” is also indicative of a physics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learned model is able to correctly assign documen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eisenberg” to phys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C365-B4A9-4364-920A-BA64942578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ion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on assigning messages from 20 Usenet newsgroups their proper newsgroup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very few labeled examples (2 examples per class), semi-supervised EM improved accuracy from 27% (supervised data only) to 43% (supervised + unsupervised d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ore labeled examples, semi-supervision can actually decrease accuracy, but refinements to standard EM can preven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emi-supervised EM to work, the “natural clustering of data” must be consistent with the desired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902A-0C8A-40F0-8C44-0BFCB225E6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tree-based hierarchical taxonom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a set of unlabel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application of a standard clustering algorithm can produce a hierarchica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61040" y="2286000"/>
            <a:ext cx="5898600" cy="1980360"/>
            <a:chOff x="1661040" y="2286000"/>
            <a:chExt cx="5898600" cy="1980360"/>
          </a:xfrm>
        </p:grpSpPr>
        <p:sp>
          <p:nvSpPr>
            <p:cNvPr id="87" name=""/>
            <p:cNvSpPr/>
            <p:nvPr/>
          </p:nvSpPr>
          <p:spPr>
            <a:xfrm>
              <a:off x="4267080" y="2286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0680" y="2819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61040" y="342864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4920" y="281916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71760" y="260316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11840" y="260316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955520" y="311616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595600" y="311616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6560" y="311616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6560" y="311616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375160" y="309204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25960" y="310500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960" y="311616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752480" y="3733560"/>
              <a:ext cx="304920" cy="532800"/>
              <a:chOff x="1752480" y="3733560"/>
              <a:chExt cx="304920" cy="53280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1752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16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86000" y="3733560"/>
              <a:ext cx="304920" cy="532800"/>
              <a:chOff x="2286000" y="3733560"/>
              <a:chExt cx="304920" cy="53280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228600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4980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124080" y="3733560"/>
              <a:ext cx="304920" cy="532800"/>
              <a:chOff x="3124080" y="3733560"/>
              <a:chExt cx="304920" cy="532800"/>
            </a:xfrm>
          </p:grpSpPr>
          <p:sp>
            <p:nvSpPr>
              <p:cNvPr id="107" name=""/>
              <p:cNvSpPr/>
              <p:nvPr/>
            </p:nvSpPr>
            <p:spPr>
              <a:xfrm flipH="1">
                <a:off x="31240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878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3733560"/>
              <a:ext cx="304920" cy="532800"/>
              <a:chOff x="4038480" y="3733560"/>
              <a:chExt cx="304920" cy="53280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4038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02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181480" y="3733560"/>
              <a:ext cx="304920" cy="532800"/>
              <a:chOff x="5181480" y="3733560"/>
              <a:chExt cx="304920" cy="5328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5181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45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0960" y="3733560"/>
              <a:ext cx="304560" cy="532800"/>
              <a:chOff x="5790960" y="3733560"/>
              <a:chExt cx="304560" cy="53280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57909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547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705360" y="3733560"/>
              <a:ext cx="304560" cy="532800"/>
              <a:chOff x="6705360" y="3733560"/>
              <a:chExt cx="304560" cy="53280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67053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691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D9D4-CCD1-47DC-9586-CA775052F9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lommerative vs. Divis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glomm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thods start with each example in its own cluster and iteratively combine them to form larger and larger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al, 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parate all examples immediately into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B48A-74FD-46EE-BE2E-50406DC31C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Clus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rect clus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require a specification of the number of clust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ing eval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a real-value quality measure to a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clusters can be determined automatically by explicitly generating clusterings for multiple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hoosing the best result according to a clustering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7A83-2A28-43E7-947E-FB7D8DE9D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Agglomerative Cluster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HAC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ity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etermining the similarity of two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all instances in a separate cluster and then repeatedly joins the two clusters that are most similar until there is only on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y of merging forms a binary tree or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D932-1CAA-4D74-80D6-3AF7233A7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A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480" y="2209680"/>
            <a:ext cx="7401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ll instances in their own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re is only one clu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current clusters, determine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are most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singl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A380-E34F-4A6D-BADC-4EBA120CB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imilarity function that determines the similarity of two instanc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similarity of document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pute similarity of two clusters each possibly containing multiple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mo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lea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up Aver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Average similarity between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ACD9-F5C2-4EF8-8023-AC26E044D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Raymond Mooney</cp:lastModifiedBy>
  <dcterms:modified xsi:type="dcterms:W3CDTF">2001-11-23T16:06:52Z</dcterms:modified>
  <cp:revision>75</cp:revision>
  <dc:subject/>
  <dc:title>Intelligent Information Retrieval and Web Search</dc:title>
</cp:coreProperties>
</file>