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605-4B97-475D-A3CB-9BDA2E24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C5C-B7BB-49CE-929A-3E163964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375-14BF-41A3-BD74-B41A8F2A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91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91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91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2C9-02AE-4CC4-84CA-32FDA447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F1B-15C1-419C-872E-A4B7E17A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55C-DBC6-4459-ABC0-1149158C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42E-284B-447F-AAD7-2F9D5F66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184-839A-491A-B568-E4AA8681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CD0-4C6C-4D3B-94B9-38AF1520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FE0-D421-4564-9A42-B35C07F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3C2-22FC-4C87-AE44-A1C3D3E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F2A-7DED-4F12-A7AF-BF71229B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62360"/>
            <a:ext cx="19051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62360"/>
            <a:ext cx="28958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62360"/>
            <a:ext cx="19051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C38-B79F-4C34-9750-D5A9A2A8B7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080" y="2819160"/>
            <a:ext cx="77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 and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ery word could be ambiguou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Star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es documents abo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tronomy, plants, anim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 Visu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cument responses to queries along lines of different top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2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construction of topic hierarchies and tax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liminary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large samples of web docu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eeding up similarity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 the search for documents similar to a query to  most representative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F71-46BB-43DC-941A-D09CC52D2D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4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24080" y="760320"/>
          <a:ext cx="68770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760320"/>
                    <a:ext cx="68770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-390240" y="5942160"/>
            <a:ext cx="100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Scatter/Gather, a text clustering system, can separate salient topics in the respons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keyword queries. (Image courtesy of Hear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E89-C3C1-4355-8F51-E7968A08D8C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8742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 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olve measures of similarity to </a:t>
            </a:r>
            <a:r>
              <a:rPr b="0" lang="en-US" sz="2800" spc="-1" strike="noStrike">
                <a:solidFill>
                  <a:srgbClr val="669900"/>
                </a:solidFill>
                <a:latin typeface="Tahoma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llection of documents/terms into groups within which </a:t>
            </a:r>
            <a:r>
              <a:rPr b="0" lang="en-US" sz="2800" spc="-1" strike="noStrike">
                <a:solidFill>
                  <a:srgbClr val="669900"/>
                </a:solidFill>
                <a:latin typeface="Tahoma"/>
              </a:rPr>
              <a:t>similar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in a cluster is larger than across clu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luster Hypothesis: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`suitable‘ clustering of a collection, if the user is interested in document/ter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/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he is likely to be interested in other members of the cluster to whic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/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lo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llaborative filtering: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stering of two/more objects which have bipartite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239-1C29-4494-81CC-8B92900D21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ustering (contd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important paradig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tom-up agglomerative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partition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isualisation technique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ing of corpus in a low-dimensional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haracterising the entiti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nally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ctor space model, probabilistic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rnall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similarity/dissimilarity between 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earning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 stock algorithms wi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ence with dat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46F-882E-447C-B48F-2405D6E04F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ustering: Paramete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milarity measure: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(eg: cosine similar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stance measure: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(eg: eucledian dista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umber “k” of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mber of noisy dimen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on of noise is application 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11400" y="2066760"/>
                <a:ext cx="1095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22560" y="3038400"/>
                <a:ext cx="1262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4F0-3194-4E88-ACF1-25ECC0C157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: Formal specific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tom-up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metric Embedding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organization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dimensional sc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 semantic ind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ive models and probabilistic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topic per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correspond to mixtures of multiple top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98A-7F52-454C-AE5F-89A0F35F16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artitioning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document collection in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ust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intra-cluster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intra-cluster semb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luster representations      ar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igned to        with `confidence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         so as to minimize                   or maxim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s to get partitions - </a:t>
            </a:r>
            <a:r>
              <a:rPr b="0" i="1" lang="en-US" sz="2800" spc="-1" strike="noStrike">
                <a:solidFill>
                  <a:srgbClr val="00cc99"/>
                </a:solidFill>
                <a:latin typeface="Tahoma"/>
              </a:rPr>
              <a:t>bottom-up clust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cc99"/>
                </a:solidFill>
                <a:latin typeface="Tahoma"/>
              </a:rPr>
              <a:t>top-down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81200" y="1360440"/>
                <a:ext cx="1730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29400" y="1592280"/>
                <a:ext cx="1241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67520" y="2030400"/>
                <a:ext cx="1325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09880" y="3498840"/>
                <a:ext cx="966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261040" y="2494080"/>
                <a:ext cx="3715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24200" y="3102120"/>
                <a:ext cx="10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17840" y="4361040"/>
                <a:ext cx="308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69200" y="4203720"/>
                <a:ext cx="501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379600" y="4516560"/>
                <a:ext cx="403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437080" y="4710240"/>
                <a:ext cx="145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09880" y="4940280"/>
                <a:ext cx="1494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137-7B63-4B6D-A6B5-E18C7871E8F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ottom-up clustering(HAC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617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ollection of singleton groups, each with one docu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max similarity measur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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 grou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grou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ep track of be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bove info to plot the hierarchical merging process (DENDOGR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get desired number of clusters: cut across any level of the dend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94360" y="1593720"/>
                <a:ext cx="290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807-BF2D-4531-AAC4-134EA6DB51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endogram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19120" y="990720"/>
          <a:ext cx="667080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990720"/>
                    <a:ext cx="66708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1920" y="5911920"/>
            <a:ext cx="9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 dendogram presents the progressive, hierarchy-forming merging process pictori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18B-05E6-441C-BDAF-84B8FE04788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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decreases with increasing number of mer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rage pair wise similarity between documents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nter-document similarity measure (say cosine of tfidf vecto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criteria: Maximium/Minimum pair wise similarity between documents in the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38400" y="3298680"/>
                <a:ext cx="29448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Φ</m:t>
                        </m:r>
                      </m:sub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1440" y="4179960"/>
                <a:ext cx="1098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856-A6E6-4EA0-9C25-CCBCFD279B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ery word could be ambiguou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Star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es documents abo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tronomy, plants, anim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 Visu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cument responses to queries along lines of different top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2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construction of topic hierarchies and tax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liminary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large samples of web docu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eeding up similarity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 the search for documents similar to a query to  most representative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585-6377-4229-8EC0-30920CA3E4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mput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05400" y="121608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norma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ro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440160" y="1216080"/>
                <a:ext cx="2303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908280" y="22669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06480" y="2724120"/>
                <a:ext cx="34005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Φ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Φ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06480" y="3746520"/>
                <a:ext cx="58611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∪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∪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∪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06480" y="4782960"/>
                <a:ext cx="5889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Γ</m:t>
                                  </m:r>
                                  <m:r>
                                    <m:t xml:space="preserve">∪</m:t>
                                  </m:r>
                                  <m:r>
                                    <m:t xml:space="preserve">Δ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Γ</m:t>
                                  </m:r>
                                  <m:r>
                                    <m:t xml:space="preserve">∪</m:t>
                                  </m:r>
                                  <m:r>
                                    <m:t xml:space="preserve">Δ</m:t>
                                  </m:r>
                                </m:e>
                              </m:d>
                            </m:e>
                          </m:d>
                          <m:r>
                            <m:t xml:space="preserve">=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d>
                                  </m:e>
                                </m:d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mr>
                            <m:mr>
                              <m:e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650600" y="579276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 algorithm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4F7-BB63-4D51-B922-0CB11D447BC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47760" y="1295280"/>
                <a:ext cx="48625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87280" y="2455920"/>
                <a:ext cx="2949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063080" y="3276720"/>
            <a:ext cx="309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pro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714920" y="3193920"/>
                <a:ext cx="28242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057680" y="4800600"/>
            <a:ext cx="33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grou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95840" y="4633920"/>
                <a:ext cx="33004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9F1-6CD1-4912-967A-B59917972A2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witch to top-dow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quadratic time and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-down 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ve-to-ne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presentation for documents as well as clu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 documents into `k’ clu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vari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” (0/1) assignment of docume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” : documents belong to clusters, with fractional sc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ssignment of documents to clusters ceases to change much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cluster centroids move negligibly over successive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85D-26EF-4BCB-A204-9598527A09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-down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rd 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Means: Repe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bitrary ‘centroids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each document to nearest centr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mpute centro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f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eans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break close ties between document assignme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make documents contribute to a single cluster which wins narrow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ibution for updating cluster centroid      from document     related to the current similarity between       and    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083280" y="4800600"/>
                <a:ext cx="355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967440" y="4799160"/>
                <a:ext cx="335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121600" y="4586400"/>
                <a:ext cx="335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83280" y="4584600"/>
                <a:ext cx="355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933640" y="5419800"/>
                <a:ext cx="26035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γ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6080" y="2048040"/>
          <a:ext cx="1046160" cy="22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048040"/>
                    <a:ext cx="104616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248-B822-435E-918E-B79AF5735A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eeding `k’ cluster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domly sample             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ottom-up group average clustering algorithm to reduce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roups or clusters 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nlo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 assign-to-neares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each document to nearest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ute cluster centro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time take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deterministic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470480" y="990720"/>
                <a:ext cx="1284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502-4981-48BC-B546-6D544A0788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`k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problem dr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be ‘data driven’ only when 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not s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dimensions are not too noi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t interprets results of structure 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332-A07A-4169-A4A6-2AD18E6948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s 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Hypothesi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derlying density is a mixture of ‘k’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regularity conditions on the mixture likelihood functio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Smith’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yesian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posterior distribution on k, given data and prior on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Computational complexity of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class algorithm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Cheeseman’98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pprox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Diebolt’94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s sampling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7A2-2497-47CD-918B-E9750961D43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alised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ccount for the fact tha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) is a non-decreasing function of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alise the number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: Bayesian Information Criterion (BIC), Minimum Description Length(MDL), MM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Penalised criteria are asymptotically optima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itterington 19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Validation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ML estimate on part of train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k that maximises average of the M cross-validated average likelihoods on held-out data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Validation techniques: Monte Carlo Cross Validation (MCCV), v-fold cross validation (vCV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ACF-246E-4121-A7B0-C967C5E1D5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Visualisation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echniqu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Tahoma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ing of corpus in a low-dimensional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Agglomerative Clustering (H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ds itself easily to visualisa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Organization map (SO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ose cousin of k-me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dimensional scaling (M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the distortion of interpoint distances in the low-dimensional embedding as compared to the dissimilarity given in the input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nt Semantic Indexing (L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 transformations to reduce number of dimen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2D7-8D97-4301-9F2D-1B0D4EC7F8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elf-Organization Map (SOM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soft k-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association between clusters and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e a representative vector      with each cluster and iteratively refi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k-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bed the clusters in a low-dimensional space right from the begi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number of clusters can be initialised even if eventually many are to remain devoid of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uster can be a slot in a square/hexagonal gri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id structure defines the neighborho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ach clus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volves a proximity function            between clusters    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59320" y="1816200"/>
                <a:ext cx="355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36920" y="2050920"/>
                <a:ext cx="4078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330720" y="6157800"/>
                <a:ext cx="2127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260440" y="6110280"/>
                <a:ext cx="2383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15000" y="5732640"/>
                <a:ext cx="826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ED9-D7D7-4A0B-9971-5CDF70870B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98640" y="714240"/>
          <a:ext cx="56642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714240"/>
                    <a:ext cx="56642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390240" y="5942160"/>
            <a:ext cx="100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Scatter/Gather, a text clustering system, can separate salient topics in the respons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keyword queries. (Image courtesy of Hear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3BC-7DAE-4FE6-84E1-AF376735259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 : Update Ru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Neur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tivates neuron (closest cluster)       as well as the neighborhood  neu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 Gaussian neighborhood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rule for node    under the influen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       is the ndb width and      is the learning rat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933640" y="2077920"/>
                <a:ext cx="3286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44720" y="2533680"/>
                <a:ext cx="833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674800" y="3357720"/>
                <a:ext cx="2700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73240" y="4834080"/>
                <a:ext cx="3903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32280" y="4116240"/>
                <a:ext cx="2523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713640" y="5506920"/>
                <a:ext cx="581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67160" y="5506920"/>
                <a:ext cx="7333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E4C-52AE-440F-8EDD-EABF5E1439F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 : Example I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990720"/>
          <a:ext cx="777240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7724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8360" y="5369040"/>
            <a:ext cx="96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SOM computed from over a million documents taken from 80 Usenet newsgroups.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areas have a high density of docu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9D0-A144-4213-943E-2B76B8F5C08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: Example II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290600"/>
          <a:ext cx="777240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0600"/>
                    <a:ext cx="77724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5800" y="5310360"/>
            <a:ext cx="76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Another example of SOM at work: the sites listed in the Open Directory have beenorganized within a map of Antarctica at </a:t>
            </a:r>
            <a:r>
              <a:rPr b="0" lang="en-US" sz="1800" spc="-1" strike="noStrike">
                <a:solidFill>
                  <a:srgbClr val="669900"/>
                </a:solidFill>
                <a:latin typeface="CMTT10"/>
              </a:rPr>
              <a:t>http://antarcti.ca/</a:t>
            </a: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CDF-00AD-4839-975E-7C94873F9FFA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ultidimensional Scaling(MDS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nce preserving” low dimensional embedding of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inter-document distan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apriori or computed from internal re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rse-grained use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provides similarity      between document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increasing feedback, prior distances are overrid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 : Minimize the stress of embe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240080" y="3530520"/>
                <a:ext cx="387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969240" y="1974960"/>
                <a:ext cx="4982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917800" y="4950000"/>
                <a:ext cx="2873520" cy="17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ess</m:t>
                    </m:r>
                    <m:r>
                      <m:t xml:space="preserve">=</m:t>
                    </m:r>
                    <m:limUpp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646-4F6B-4051-AC87-6C49F8ADDE6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DS: issu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not easy to optim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hill clim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s (documents) assigned random coordinates by external heur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s moved by small distance in direction of locally decreasing st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akes         time to be m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ly          time per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83080" y="4684680"/>
                <a:ext cx="838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919240" y="5181480"/>
                <a:ext cx="9939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B4B-6E1B-4438-B9C6-E42DBA53197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Fast Map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[Faloutsos ’95]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ternal representation of documents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projection from an ‘n’ dimensional space to a space with a smaller number `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 of dimen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projection of documents along lines of maximum sp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1D projection preserves distanc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BA3-D62E-497F-A166-2F12AA03827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est lin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vots for a line: two point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hat determine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exhaustive checking by picking pivots that are far a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ordinates     of point      on “best line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66960" y="4788000"/>
                <a:ext cx="2857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11560" y="3184560"/>
                <a:ext cx="387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335640" y="3378240"/>
                <a:ext cx="322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86000" y="3733920"/>
                <a:ext cx="9050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5B0-3E0E-4A27-81DD-35CCA00CCD6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terative projec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  i = 1 to 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next 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“best”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 “best” line is one which gives maximum variance of the point-set in the direction of t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points on t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points on the “hyperspace” orthogonal to the abov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A75-A216-42A0-9562-B7E2915DF9E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rojec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MR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To correct inter-point distances           between points              by taking into account the components               already accounted for by the first pivot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recursively upto 1-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: O(nk)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665440" y="3338640"/>
                <a:ext cx="33670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665440" y="2008080"/>
                <a:ext cx="99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368520" y="2490840"/>
                <a:ext cx="1019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032520" y="1585800"/>
                <a:ext cx="677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CC6-7491-4798-8ADA-5DE8D764E3F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ssu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ing noise dim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tom-up dimension composition too s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of noise depends o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ning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computation domi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proj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linear time w/o losing small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ng semi-structured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erlinks, tags embed similarity c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k is worth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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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1B4-C4AD-4E1C-B853-564DB4C2CCC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8742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sk 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 measures of similarity to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clu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ollection of documents/terms into groups within which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simil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in a cluster is larger than across clus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uster Hypothesis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iven a `suitable‘ clustering of a collection, if the user is interested in document/term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d/t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, he is likely to be interested in other members of the cluster to which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d/t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belo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milarity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documents by TFIDF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between document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ine of angle between document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number of noisy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on of noise is applic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654-DF2E-4AEC-B968-B8268C5F9C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 maximization (EM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bitrary ‘distribution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robability tha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from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distribution parameters from weighted contribution of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A8F-E56D-4921-8C1D-996E5927400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tended similarity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5505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I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y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coo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eat garage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pai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r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2-wheel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 and car co-occur of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s having related words are re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 search and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basic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-made thesaurus (Word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-occurrence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757920" y="5572080"/>
            <a:ext cx="1122480" cy="45792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9040" y="4732200"/>
            <a:ext cx="1209600" cy="45792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48240" y="1591560"/>
            <a:ext cx="1589400" cy="79920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89720" y="1743840"/>
            <a:ext cx="1589400" cy="79920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1896480"/>
            <a:ext cx="1589400" cy="79920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80200" y="2914560"/>
            <a:ext cx="281160" cy="457200"/>
          </a:xfrm>
          <a:prstGeom prst="downArrow">
            <a:avLst>
              <a:gd name="adj1" fmla="val 50000"/>
              <a:gd name="adj2" fmla="val 40653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5000" y="3523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80200" y="4057560"/>
            <a:ext cx="281160" cy="457200"/>
          </a:xfrm>
          <a:prstGeom prst="downArrow">
            <a:avLst>
              <a:gd name="adj1" fmla="val 50000"/>
              <a:gd name="adj2" fmla="val 40653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7360" y="51238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03A-B799-4559-98C3-9A20CFFF986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986280" y="2193120"/>
            <a:ext cx="3330000" cy="3446640"/>
            <a:chOff x="3986280" y="2193120"/>
            <a:chExt cx="3330000" cy="3446640"/>
          </a:xfrm>
        </p:grpSpPr>
        <p:sp>
          <p:nvSpPr>
            <p:cNvPr id="201" name=""/>
            <p:cNvSpPr/>
            <p:nvPr/>
          </p:nvSpPr>
          <p:spPr>
            <a:xfrm>
              <a:off x="6299640" y="2681280"/>
              <a:ext cx="101664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6480" y="2681280"/>
              <a:ext cx="51696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6280" y="2681280"/>
              <a:ext cx="517320" cy="243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86280" y="2529000"/>
              <a:ext cx="517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5520" y="219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1440" y="527148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-dim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8" idx="3"/>
              <a:endCxn id="206" idx="0"/>
            </p:cNvCxnSpPr>
            <p:nvPr/>
          </p:nvCxnSpPr>
          <p:spPr>
            <a:xfrm>
              <a:off x="4784040" y="3900600"/>
              <a:ext cx="1240200" cy="1372320"/>
            </a:xfrm>
            <a:prstGeom prst="curved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10" idx="2"/>
              <a:endCxn id="206" idx="0"/>
            </p:cNvCxnSpPr>
            <p:nvPr/>
          </p:nvCxnSpPr>
          <p:spPr>
            <a:xfrm rot="5400000">
              <a:off x="5538960" y="4003560"/>
              <a:ext cx="1753560" cy="784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Latent semantic index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357200" y="2681280"/>
            <a:ext cx="1009800" cy="243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92680" y="2375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798840" y="3675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86280" y="2681280"/>
            <a:ext cx="798480" cy="243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57200" y="5272200"/>
            <a:ext cx="100980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9000" y="52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78240" y="2681280"/>
            <a:ext cx="0" cy="24382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0360" y="3793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86280" y="5272200"/>
            <a:ext cx="79848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54480" y="5271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35400" y="2681280"/>
            <a:ext cx="800280" cy="838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2681280"/>
            <a:ext cx="1015920" cy="838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2560680"/>
            <a:ext cx="10159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38840" y="222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551400"/>
            <a:ext cx="966960" cy="735840"/>
          </a:xfrm>
          <a:prstGeom prst="rightArrow">
            <a:avLst>
              <a:gd name="adj1" fmla="val 50000"/>
              <a:gd name="adj2" fmla="val 3285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9800" y="1675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2"/>
            <a:endCxn id="203" idx="1"/>
          </p:cNvCxnSpPr>
          <p:nvPr/>
        </p:nvCxnSpPr>
        <p:spPr>
          <a:xfrm flipH="1" rot="16200000">
            <a:off x="2693160" y="2607120"/>
            <a:ext cx="1858320" cy="7293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827960" y="1675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endCxn id="210" idx="0"/>
          </p:cNvCxnSpPr>
          <p:nvPr/>
        </p:nvCxnSpPr>
        <p:spPr>
          <a:xfrm>
            <a:off x="5936760" y="1905120"/>
            <a:ext cx="872280" cy="7768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3997440" y="2918520"/>
            <a:ext cx="804600" cy="368280"/>
          </a:xfrm>
          <a:prstGeom prst="flowChartProcess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2400" y="4433040"/>
            <a:ext cx="804960" cy="368280"/>
          </a:xfrm>
          <a:prstGeom prst="flowChartProcess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4B7-C893-40AA-9D17-7F03B0447D2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907920" y="3435480"/>
          <a:ext cx="7359840" cy="20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3435480"/>
                    <a:ext cx="735984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907920" y="3436920"/>
          <a:ext cx="7361280" cy="208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3436920"/>
                    <a:ext cx="736128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llaborative recommend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=record, movies=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and features to be clust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tual reinforcement of simi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dvanced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13320" y="582624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ustering methods in collaborative filter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ngar and Fo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870-EF91-4696-B989-92054512B6F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 model for collabor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and movies belong to unknown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bability a random person is in clas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bability a random movie is in clas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bability of a class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son liking a class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bbs sampling: ite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k a person or movie at random and assign to a class with probability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new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C78-02CE-413E-8254-4DD300ADC6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adic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ity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ked preferenc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adic data : domain with two finite sets of obje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 : Of dyad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upervised learning from dyadic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ets of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714680" y="4562640"/>
                <a:ext cx="56005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D30-ABFC-4B6D-B732-2604F185F95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 (contd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in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stic modeling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a joint or conditional probability model o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 discove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ing clusters and data hierarch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768760" y="2349360"/>
                <a:ext cx="944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F85-8A00-4CDF-9104-2850A5B393A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irical co-occurrence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paresen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irical frequencies either 0 or significantly corrupt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ampling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o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-of method [Katz’8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 interpolation with held-out data [JM’80, Jel’85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ilarity-based smoothing techniques [ES’9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-based statistical approach: a principled approach to deal with data spars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4CF-9D3E-4DEA-B361-34029FE50E6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-based statistical approach: a principled approach to deal with data spars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Mixture Models [TSM’8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class [And’97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pecification of a joint probability distribution for latent and observable variabl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[Hoffmann’98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ode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modeling by margi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tection (exploratory data analy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erior probabilities by baye’s rule on latent space of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402-9EF8-4653-A36F-23DA31A3A52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ation of an underlying sequence of random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o-occurrences in sample S are i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independent g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c) are the mixture compon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71440" y="1579680"/>
                <a:ext cx="2135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65320" y="2546280"/>
                <a:ext cx="225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853320" y="4830840"/>
                <a:ext cx="396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9480" y="4830840"/>
                <a:ext cx="893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F52-5490-488C-BC32-A15F08D47E6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-down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Means: Repe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bitrary ‘centroid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each document to nearest centro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ute centro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 maximization (EM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bitrary ‘distribution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robability tha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from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distribution parameters from weighted contribution of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B1F-48E0-418F-9738-3F1A7CAD91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: Latent clas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784520" y="2136600"/>
          <a:ext cx="5460840" cy="31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2136600"/>
                    <a:ext cx="5460840" cy="31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489480" y="5275440"/>
                <a:ext cx="253188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489480" y="1436760"/>
                <a:ext cx="19875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4960" y="4381560"/>
                <a:ext cx="2060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632640" y="4381560"/>
                <a:ext cx="2060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685800" y="2136600"/>
            <a:ext cx="0" cy="13431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20" y="671400"/>
            <a:ext cx="12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a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8BF-5B5B-4BBB-A8CC-367C7B1F298A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52440" y="990720"/>
          <a:ext cx="640728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990720"/>
                    <a:ext cx="6407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999800" y="32623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20920" y="32623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71600" y="3629160"/>
                <a:ext cx="5070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33720" y="5086440"/>
                <a:ext cx="483552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26F-5C10-4504-AFA9-B6D7A825339F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 </a:t>
            </a:r>
            <a:r>
              <a:rPr b="0" i="1" lang="en-US" sz="3600" spc="-1" strike="noStrike">
                <a:solidFill>
                  <a:srgbClr val="3333cc"/>
                </a:solidFill>
                <a:latin typeface="Tahoma"/>
              </a:rPr>
              <a:t>vs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ustering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ed aspect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fl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structure on object spaces as against partiti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.) : are the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{.}: are posteri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11240" y="1971720"/>
                <a:ext cx="6346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δalignl</m:t>
                    </m:r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267000" y="2751120"/>
                <a:ext cx="1817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43240" y="3592440"/>
                <a:ext cx="3202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↑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0EF-325E-4836-B6B9-19F43999718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Hierarchical Clustering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22600" y="990720"/>
          <a:ext cx="6046560" cy="26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2600" y="990720"/>
                    <a:ext cx="60465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959840" y="36352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sided 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41680" y="3635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903840" y="5396040"/>
                <a:ext cx="4835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[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87200" y="4052880"/>
                <a:ext cx="6562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[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0EC-25FF-474E-BA27-59C1F1169A34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mparison of E’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90640" y="1452600"/>
                <a:ext cx="6305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717640" y="2417760"/>
                <a:ext cx="53578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90640" y="3960720"/>
                <a:ext cx="6540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790640" y="5504040"/>
                <a:ext cx="666756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685800" y="1258920"/>
            <a:ext cx="8070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sp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One-sided asp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Hierarchical asp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8B4-92AC-4C52-9835-78F2C76CFA17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empered EM(TEM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vely (on the log scale) discount the likelihood part in Baye’s formul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     and perform EM until the performance on held--out data deteriorates (early stopping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rease    e.g., by setting             with some rate parameter 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 long as the performance on held-out data improves continue TEM iterations at this value o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p on      i.e., stop when decreasing    does not yield further improvements, otherwise goto step (2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orm some final iterations using both, training and heldout data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85800" y="4862520"/>
                <a:ext cx="77724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171880" y="2103480"/>
                <a:ext cx="1584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647800" y="2644920"/>
                <a:ext cx="158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352760" y="2644920"/>
                <a:ext cx="56844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η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515360" y="2584440"/>
                <a:ext cx="514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194000" y="3198960"/>
                <a:ext cx="15876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68600" y="3457440"/>
                <a:ext cx="158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241960" y="3457440"/>
                <a:ext cx="158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196-55BF-4ED6-918D-FF49EEEFED7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-Step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0" y="990720"/>
                <a:ext cx="4321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863960" y="990720"/>
                <a:ext cx="42800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'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22680" y="4892760"/>
                <a:ext cx="361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892160" y="4906800"/>
                <a:ext cx="954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22680" y="3305160"/>
                <a:ext cx="42958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  <m:sup/>
                      <m:e/>
                    </m:nary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649520" y="3308400"/>
                <a:ext cx="95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14440" y="2266920"/>
                <a:ext cx="95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22920" y="1960560"/>
                <a:ext cx="4321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14120" y="687240"/>
            <a:ext cx="307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sy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ierarchical x-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One-sided x-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2B0-5D3D-437E-99BB-0A36E09EFFCE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 Model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[Hofmann and Popat CIKM 2001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of document categ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666800"/>
          <a:ext cx="674388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66800"/>
                    <a:ext cx="674388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F41-D4C6-4598-98BB-343CE90C2E1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 Applic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61880" y="1616040"/>
          <a:ext cx="8159760" cy="41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616040"/>
                    <a:ext cx="815976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3B2-0338-4152-97DB-EC1C6CACB1B1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ic Hierarchi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vercome sparseness problem in topic hierarchies with large number of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seness Problem: Small number of positiv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ic hierarchies to reduce variance in parameter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ically different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use of term distributions estimated for more general, coarser text aspects to provide better, smoothed estimates of class conditional term dis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x combination of term distributions in a Hierarchical Mixtur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all inner no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ve the terminal class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549600" y="5195880"/>
                <a:ext cx="2511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627200" y="5683320"/>
                <a:ext cx="217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D97-5761-47C4-A584-C0107573C77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`k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problem dr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be ‘data driven’ only when 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not s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dimensions are not too noi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t interprets results of structure 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958-C70A-45C1-A99F-9691920F9E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ic Hierarchies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Hierarchical X-clustering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86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= document, Y = w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19280" y="1801800"/>
                <a:ext cx="74214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  <m:sup/>
                      <m:e/>
                    </m:nary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46880" y="1801800"/>
            <a:ext cx="2593800" cy="106056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105600" y="4430880"/>
                <a:ext cx="95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85800" y="5351400"/>
                <a:ext cx="78008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↑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19280" y="3114720"/>
                <a:ext cx="8092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↑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6583320" y="2895480"/>
            <a:ext cx="2228760" cy="106056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84520" y="3114720"/>
            <a:ext cx="1458720" cy="54432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03240" y="4189320"/>
                <a:ext cx="32400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↑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03240" y="4206960"/>
            <a:ext cx="3240000" cy="93168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6880" y="5351400"/>
            <a:ext cx="3265200" cy="93204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59D-DCC8-44CD-8465-88DB19E24A0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ocument Classification Exercis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cation of Naïve Ba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149480" y="2786040"/>
                <a:ext cx="2511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1149480" y="2763720"/>
            <a:ext cx="2511360" cy="5097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220760" y="4016520"/>
                <a:ext cx="26748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149480" y="3760920"/>
            <a:ext cx="2985840" cy="1616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A88-52E6-40E7-AC79-2CA1EE72982E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ixture vs Shrinkag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hrin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[McCallum Rosenfeld AAAI’98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ior nodes in the hierarchy represent coarser views of the data which are obtained by simple pooling scheme of term cou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Mixtur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ior nodes represent abstraction levels with their corresponding specific vocabu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efined hierarchy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[Hofmann and Popat CIKM 2001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on of hierarchical model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labeled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[Hofmann IJCAI’9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6DF-56F2-4E67-910A-FC0DE7DEC8C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ixture Density Networks(MDN)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[Bishop CM ’94 Mixture Density Networks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86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road and flexible class of distributions that are capable of modeling completely general continuous distrib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uperimpose simple component densities with well known properties to generate or approximate more complex distrib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wo modu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ixture models: Output has a distribution given as mixture of distrib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eural Network: Outputs determine parameters of the mixture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138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327-E5BE-480F-BE3A-9F6D8F6595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DN: Examp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71680" y="990720"/>
          <a:ext cx="659592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990720"/>
                    <a:ext cx="659592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22920" y="5967360"/>
            <a:ext cx="75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ditional mixture density network with Gaussian component den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82E-33D7-44D0-AEA3-D4FB770BF10A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D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 Estimation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Generalized EM (GEM) algo to speed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for a linear mixture, closed form solu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nte Carlo Simul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a substit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D69-426D-4689-B97C-A0DA020704CD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er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docum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represent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number of tim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ccurs in docum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s are zeroes for a single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tone component-wise damping fun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as log or square-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ocumen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040280" y="1523880"/>
                <a:ext cx="3290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130400" y="2077920"/>
                <a:ext cx="1455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557440" y="5391000"/>
                <a:ext cx="413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1F1-0E5F-4C0C-B8AA-AE4A8818E10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s 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Hypothesi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derlying density is a mixture of ‘k’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regularity conditions on the mixture likelihood functio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Smith’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yesian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posterior distribution on k, given data and prior on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Computational complexity of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class algorithm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Cheeseman’98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pprox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Diebolt’94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s sampling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35B-CD2E-4E8D-96B1-2CF229B2A3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alised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ccount for the fact tha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) is a non-decreasing function of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alise the number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: Bayesian Information Criterion (BIC), Minimum Description Length(MDL), MM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Penalised criteria are asymptotically optima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itterington 19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Validation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ML estimate on part of train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k that maximises average of the M cross-validated average likelihoods on held-out data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Validation techniques: Monte Carlo Cross Validation (MCCV), v-fold cross validation (vCV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2E6-321E-4DC3-9BFB-7F079F08B0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3080" y="2819160"/>
            <a:ext cx="77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 and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6:13:29Z</dcterms:created>
  <dc:creator>Ganesh ramakrishnan</dc:creator>
  <dc:description/>
  <dc:language>en-US</dc:language>
  <cp:lastModifiedBy>Ganesh Ramakrishnan</cp:lastModifiedBy>
  <cp:lastPrinted>1999-05-05T15:03:01Z</cp:lastPrinted>
  <dcterms:modified xsi:type="dcterms:W3CDTF">2003-07-17T21:15:42Z</dcterms:modified>
  <cp:revision>125</cp:revision>
  <dc:subject/>
  <dc:title>cluster</dc:title>
</cp:coreProperties>
</file>