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039-056C-4457-A550-90933843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912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D22-33B1-4865-8DE8-19AFEBF8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91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482-1B39-4D65-9FE1-B82FB4AB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91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91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9120"/>
            <a:ext cx="2502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784-E02D-4880-9E1C-607DB73A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B58-A457-4B9C-892A-BD8D1145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066-2405-4DAA-8285-17CB7EEC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2F5-D1CC-4899-A9F6-3AF82E69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433-85A3-48D3-98F6-F833CCFE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82D-B9FB-4692-A014-A3AE1893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272-ADC2-43FA-AF0A-753472C8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91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569-2F91-4ED1-B8EB-8D999EDB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912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E49-6ECB-4724-9EAC-AC8168F8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62360"/>
            <a:ext cx="190512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62360"/>
            <a:ext cx="28958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62360"/>
            <a:ext cx="190512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04B4-0AA1-42A1-97F0-8B81B6B6E4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3080" y="2819160"/>
            <a:ext cx="77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imilarity and 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ery word could be ambiguou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Star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es documents abo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tronomy, plants, anim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 Visu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cument responses to queries along lines of different top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 2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 construction of topic hierarchies and tax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liminary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large samples of web docu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peeding up similarity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ct the search for documents similar to a query to  most representative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89A-BD97-4365-BCC1-3EE9D7464F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4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24080" y="760320"/>
          <a:ext cx="687708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760320"/>
                    <a:ext cx="68770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-390240" y="5942160"/>
            <a:ext cx="1008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R10"/>
              </a:rPr>
              <a:t>Scatter/Gather, a text clustering system, can separate salient topics in the respons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R10"/>
              </a:rPr>
              <a:t>keyword queries. (Image courtesy of Hear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5A4-0CFC-4856-8BAB-869D149A592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8742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sk 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volve measures of similarity to </a:t>
            </a:r>
            <a:r>
              <a:rPr b="0" lang="en-US" sz="2800" spc="-1" strike="noStrike">
                <a:solidFill>
                  <a:srgbClr val="669900"/>
                </a:solidFill>
                <a:latin typeface="Tahoma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collection of documents/terms into groups within which </a:t>
            </a:r>
            <a:r>
              <a:rPr b="0" lang="en-US" sz="2800" spc="-1" strike="noStrike">
                <a:solidFill>
                  <a:srgbClr val="669900"/>
                </a:solidFill>
                <a:latin typeface="Tahoma"/>
              </a:rPr>
              <a:t>similar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in a cluster is larger than across clus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luster Hypothesis: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`suitable‘ clustering of a collection, if the user is interested in document/ter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/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he is likely to be interested in other members of the cluster to whic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/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lo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llaborative filtering: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ustering of two/more objects which have bipartite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8AD-3C54-41FA-9D05-694AD2C547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ustering (contd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important paradigm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tom-up agglomerative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partition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isualisation technique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ding of corpus in a low-dimensional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haracterising the entiti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nally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ctor space model, probabilistic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rnally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similarity/dissimilarity between p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earning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ement stock algorithms wi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erience with dat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726-DA74-4FE5-BB91-0BE44B2EBE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ustering: Parameter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milarity measure: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(eg: cosine similar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stance measure: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(eg: eucledian dista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umber “k” of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mber of noisy dimen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on of noise is application 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111400" y="2066760"/>
                <a:ext cx="1095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22560" y="3038400"/>
                <a:ext cx="12621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FD6-13B1-4586-8AE6-B3ED642731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ustering: Formal specific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tom-up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metric Embedding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organization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dimensional sc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t  semantic ind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ive models and probabilistic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topic per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correspond to mixtures of multiple top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D73-3E8C-4881-A347-77BCC26E40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Partitioning Approach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document collection in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ust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intra-cluster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 intra-cluster sembl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luster representations      ar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igned to        with `confidence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         so as to minimize                   or maxim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s to get partitions - </a:t>
            </a:r>
            <a:r>
              <a:rPr b="0" i="1" lang="en-US" sz="2800" spc="-1" strike="noStrike">
                <a:solidFill>
                  <a:srgbClr val="00cc99"/>
                </a:solidFill>
                <a:latin typeface="Tahoma"/>
              </a:rPr>
              <a:t>bottom-up clust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cc99"/>
                </a:solidFill>
                <a:latin typeface="Tahoma"/>
              </a:rPr>
              <a:t>top-down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581200" y="1360440"/>
                <a:ext cx="17305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29400" y="1592280"/>
                <a:ext cx="1241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167520" y="2030400"/>
                <a:ext cx="13255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09880" y="3498840"/>
                <a:ext cx="966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261040" y="2494080"/>
                <a:ext cx="3715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24200" y="3102120"/>
                <a:ext cx="1052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417840" y="4361040"/>
                <a:ext cx="308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469200" y="4203720"/>
                <a:ext cx="5014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379600" y="4516560"/>
                <a:ext cx="4032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437080" y="4710240"/>
                <a:ext cx="14590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909880" y="4940280"/>
                <a:ext cx="1494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7CD-5B16-47DD-9301-8BB67BA1E8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ottom-up clustering(HAC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61720"/>
            <a:ext cx="77724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l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collection of singleton groups, each with one docu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max similarity measur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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ge grou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grou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eep track of be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bove info to plot the hierarchical merging process (DENDOGR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get desired number of clusters: cut across any level of the dend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94360" y="1593720"/>
                <a:ext cx="290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869-4B06-4122-BD54-500816A14F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Dendogram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19120" y="990720"/>
          <a:ext cx="667080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990720"/>
                    <a:ext cx="66708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1920" y="5911920"/>
            <a:ext cx="9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R10"/>
              </a:rPr>
              <a:t>A dendogram presents the progressive, hierarchy-forming merging process pictori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6E2-BD41-4B13-B49C-FE129FB9273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imilarity measur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l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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decreases with increasing number of merg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erage pair wise similarity between documents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nter-document similarity measure (say cosine of tfidf vecto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criteria: Maximium/Minimum pair wise similarity between documents in the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38400" y="3298680"/>
                <a:ext cx="29448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Φ</m:t>
                        </m:r>
                      </m:sub>
                      <m:sup/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41440" y="4179960"/>
                <a:ext cx="1098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446-1AC1-4309-A59D-FF8D195E90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ery word could be ambiguou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Star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es documents abo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tronomy, plants, anim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 Visu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cument responses to queries along lines of different top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 2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 construction of topic hierarchies and tax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liminary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large samples of web docu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peeding up similarity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ct the search for documents similar to a query to  most representative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luster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522-FA81-4131-814B-423A8E0D1F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omput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05400" y="1216080"/>
            <a:ext cx="20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-normal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pro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440160" y="1216080"/>
                <a:ext cx="2303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908280" y="226692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h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06480" y="2724120"/>
                <a:ext cx="34005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Φ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Φ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Φ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06480" y="3746520"/>
                <a:ext cx="58611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∪</m:t>
                        </m:r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Γ</m:t>
                            </m:r>
                            <m:r>
                              <m:t xml:space="preserve">∪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Γ</m:t>
                            </m:r>
                            <m:r>
                              <m:t xml:space="preserve">∪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Γ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Γ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Γ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06480" y="4782960"/>
                <a:ext cx="58896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Γ</m:t>
                                  </m:r>
                                  <m:r>
                                    <m:t xml:space="preserve">∪</m:t>
                                  </m:r>
                                  <m:r>
                                    <m:t xml:space="preserve">Δ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Γ</m:t>
                                  </m:r>
                                  <m:r>
                                    <m:t xml:space="preserve">∪</m:t>
                                  </m:r>
                                  <m:r>
                                    <m:t xml:space="preserve">Δ</m:t>
                                  </m:r>
                                </m:e>
                              </m:d>
                            </m:e>
                          </m:d>
                          <m:r>
                            <m:t xml:space="preserve">=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</m:d>
                                    <m:r>
                                      <m:t xml:space="preserve">,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</m:d>
                                  </m:e>
                                </m:d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</m:d>
                                    <m:r>
                                      <m:t xml:space="preserve">,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</m:mr>
                            <m:mr>
                              <m:e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</m:d>
                                    <m:r>
                                      <m:t xml:space="preserve">,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650600" y="579276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 algorithm with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E23-B9CE-4846-86A8-CBE04624C95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imilarity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147760" y="1295280"/>
                <a:ext cx="48625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87280" y="2455920"/>
                <a:ext cx="2949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063080" y="3276720"/>
            <a:ext cx="309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pro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714920" y="3193920"/>
                <a:ext cx="28242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057680" y="4800600"/>
            <a:ext cx="331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grou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95840" y="4633920"/>
                <a:ext cx="330048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941-1764-4678-8AD8-E28BBDD1E1B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witch to top-dow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quadratic time and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-down 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ve-to-nea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presentation for documents as well as clu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 documents into `k’ clu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vari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” (0/1) assignment of documents to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” : documents belong to clusters, with fractional sc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ssignment of documents to clusters ceases to change much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cluster centroids move negligibly over successive it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FF7-9B26-4BD6-A9DD-C43C90B838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op-down 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ard 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Means: Repea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bitrary ‘centroids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each document to nearest centro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mpute centro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f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-Means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break close ties between document assignments to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’t make documents contribute to a single cluster which wins narrow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ibution for updating cluster centroid      from document     related to the current similarity between       and    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083280" y="4800600"/>
                <a:ext cx="3556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967440" y="4799160"/>
                <a:ext cx="3351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121600" y="4586400"/>
                <a:ext cx="3351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83280" y="4584600"/>
                <a:ext cx="3556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933640" y="5419800"/>
                <a:ext cx="26035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γ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46080" y="2048040"/>
          <a:ext cx="1046160" cy="22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048040"/>
                    <a:ext cx="104616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82C-46EE-4295-AF63-1A43A83A8BA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eeding `k’ cluster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domly sample             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ottom-up group average clustering algorithm to reduce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roups or clusters 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nlog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 assign-to-neares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each document to nearest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pute cluster centro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time take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deterministic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470480" y="990720"/>
                <a:ext cx="1284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627-4283-4A01-9D07-A61C371F17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`k’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problem dr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be ‘data driven’ only when ei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s not spa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 dimensions are not too noi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t interprets results of structure 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91F-54CA-4699-8103-FF9705FC6A2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‘k’ : Approach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is tes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Hypothesi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derlying density is a mixture of ‘k’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regularity conditions on the mixture likelihood functio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Smith’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yesian Est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posterior distribution on k, given data and prior on 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Computational complexity of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class algorithm of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Cheeseman’98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pproxim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Diebolt’94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s sampling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1E4-1843-4847-BD4E-42C8F73E9D1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‘k’ : Approach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alised Likeli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ccount for the fact that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) is a non-decreasing function of 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alise the number of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: Bayesian Information Criterion (BIC), Minimum Description Length(MDL), MM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ption: Penalised criteria are asymptotically optimal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itterington 19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Validation Likeli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ML estimate on part of train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k that maximises average of the M cross-validated average likelihoods on held-out data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 Validation techniques: Monte Carlo Cross Validation (MCCV), v-fold cross validation (vCV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88C-7306-4AAE-9996-F65D90CA1E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Visualisation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echniqu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Tahoma"/>
              </a:rPr>
              <a:t>Goa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ding of corpus in a low-dimensional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Agglomerative Clustering (H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ds itself easily to visualisa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Organization map (SO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ose cousin of k-me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dimensional scaling (M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the distortion of interpoint distances in the low-dimensional embedding as compared to the dissimilarity given in the input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nt Semantic Indexing (L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 transformations to reduce number of dimens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8D2-7FF1-4B3B-A9F5-257F798B2B3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elf-Organization Map (SOM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soft k-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association between clusters and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te a representative vector      with each cluster and iteratively refi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 k-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bed the clusters in a low-dimensional space right from the begi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number of clusters can be initialised even if eventually many are to remain devoid of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uster can be a slot in a square/hexagonal gri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rid structure defines the neighborho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ach clust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volves a proximity function            between clusters    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359320" y="1816200"/>
                <a:ext cx="3556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36920" y="2050920"/>
                <a:ext cx="4078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330720" y="6157800"/>
                <a:ext cx="2127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260440" y="6110280"/>
                <a:ext cx="2383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715000" y="5732640"/>
                <a:ext cx="826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C72-A15C-411C-85A5-FFE49989A51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898640" y="714240"/>
          <a:ext cx="56642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8640" y="714240"/>
                    <a:ext cx="56642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-390240" y="5942160"/>
            <a:ext cx="1008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R10"/>
              </a:rPr>
              <a:t>Scatter/Gather, a text clustering system, can separate salient topics in the respons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R10"/>
              </a:rPr>
              <a:t>keyword queries. (Image courtesy of Hear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DDF-DDBB-40C1-BF16-078B23B201B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OM : Update Rul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 Neur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ctivates neuron (closest cluster)       as well as the neighborhood  neur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 Gaussian neighborhood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rule for node    under the influen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       is the ndb width and      is the learning rat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933640" y="2077920"/>
                <a:ext cx="3286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844720" y="2533680"/>
                <a:ext cx="8334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674800" y="3357720"/>
                <a:ext cx="27003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073240" y="4834080"/>
                <a:ext cx="39038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832280" y="4116240"/>
                <a:ext cx="2523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713640" y="5506920"/>
                <a:ext cx="581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67160" y="5506920"/>
                <a:ext cx="7333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92B-47DF-496A-9385-63EFB806FE1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OM : Example I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990720"/>
          <a:ext cx="777240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77240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8360" y="5369040"/>
            <a:ext cx="96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MR10"/>
              </a:rPr>
              <a:t>SOM computed from over a million documents taken from 80 Usenet newsgroups.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MR10"/>
              </a:rPr>
              <a:t>areas have a high density of docu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5A1-1688-4B8D-A65C-F555DCA4AE6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OM: Example II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290600"/>
          <a:ext cx="777240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0600"/>
                    <a:ext cx="777240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85800" y="5310360"/>
            <a:ext cx="76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MR10"/>
              </a:rPr>
              <a:t>Another example of SOM at work: the sites listed in the Open Directory have beenorganized within a map of Antarctica at </a:t>
            </a:r>
            <a:r>
              <a:rPr b="0" lang="en-US" sz="1800" spc="-1" strike="noStrike">
                <a:solidFill>
                  <a:srgbClr val="669900"/>
                </a:solidFill>
                <a:latin typeface="CMTT10"/>
              </a:rPr>
              <a:t>http://antarcti.ca/</a:t>
            </a:r>
            <a:r>
              <a:rPr b="0" lang="en-US" sz="1800" spc="-1" strike="noStrike">
                <a:solidFill>
                  <a:srgbClr val="669900"/>
                </a:solidFill>
                <a:latin typeface="CMR10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978-CAC0-41D2-AA89-061A21523B52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ultidimensional Scaling(MDS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ance preserving” low dimensional embedding of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inter-document distanc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apriori or computed from internal re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rse-grained use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provides similarity      between document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increasing feedback, prior distances are overrid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 : Minimize the stress of embe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240080" y="3530520"/>
                <a:ext cx="387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969240" y="1974960"/>
                <a:ext cx="4982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917800" y="4950000"/>
                <a:ext cx="2873520" cy="17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ress</m:t>
                    </m:r>
                    <m:r>
                      <m:t xml:space="preserve">=</m:t>
                    </m:r>
                    <m:limUpp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120-AF79-44D2-B844-DE7B788BF27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DS: issu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ss not easy to optim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hill clim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s (documents) assigned random coordinates by external heur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s moved by small distance in direction of locally decreasing st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akes         time to be mov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ly          time per relax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83080" y="4684680"/>
                <a:ext cx="838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919240" y="5181480"/>
                <a:ext cx="9939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33C-7ED4-4F6B-89F0-9E37EA6D859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Fast Map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[Faloutsos ’95]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ternal representation of documents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 projection from an ‘n’ dimensional space to a space with a smaller number `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’ of dimen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projection of documents along lines of maximum sp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1D projection preserves distanc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1B6-0145-4F8D-911C-25396DC6456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est lin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vots for a line: two point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hat determine i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exhaustive checking by picking pivots that are far a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oordinates     of point      on “best line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66960" y="4788000"/>
                <a:ext cx="2857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111560" y="3184560"/>
                <a:ext cx="387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335640" y="3378240"/>
                <a:ext cx="3222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286000" y="3733920"/>
                <a:ext cx="9050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037-0DD3-4EDB-89B6-03A574C884E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Iterative projec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  i = 1 to 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 next 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 “best”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A “best” line is one which gives maximum variance of the point-set in the direction of the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points on the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points on the “hyperspace” orthogonal to the above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368-C01D-4169-9538-925EE2F99E9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Projec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MR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To correct inter-point distances           between points              by taking into account the components               already accounted for by the first pivot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recursively upto 1-D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: O(nk)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665440" y="3338640"/>
                <a:ext cx="33670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665440" y="2008080"/>
                <a:ext cx="99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368520" y="2490840"/>
                <a:ext cx="1019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032520" y="1585800"/>
                <a:ext cx="677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D9A-15E4-470F-AE66-2248C56FA76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Issu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ing noise dim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tom-up dimension composition too s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 of noise depends on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ning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computation domin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proj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linear time w/o losing small clu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ng semi-structured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erlinks, tags embed similarity c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ink is worth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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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7E9-65C3-4757-91DB-A73ABF29B59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87422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ask 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ve measures of similarity to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clu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collection of documents/terms into groups within which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simila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in a cluster is larger than across clus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luster Hypothesis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MR10"/>
              </a:rPr>
              <a:t>iven a `suitable‘ clustering of a collection, if the user is interested in document/term </a:t>
            </a:r>
            <a:r>
              <a:rPr b="0" i="1" lang="en-US" sz="2400" spc="-1" strike="noStrike">
                <a:solidFill>
                  <a:srgbClr val="000000"/>
                </a:solidFill>
                <a:latin typeface="CMMI10"/>
              </a:rPr>
              <a:t>d/t</a:t>
            </a:r>
            <a:r>
              <a:rPr b="0" lang="en-US" sz="2400" spc="-1" strike="noStrike">
                <a:solidFill>
                  <a:srgbClr val="000000"/>
                </a:solidFill>
                <a:latin typeface="CMR10"/>
              </a:rPr>
              <a:t>, he is likely to be interested in other members of the cluster to which </a:t>
            </a:r>
            <a:r>
              <a:rPr b="0" i="1" lang="en-US" sz="2400" spc="-1" strike="noStrike">
                <a:solidFill>
                  <a:srgbClr val="000000"/>
                </a:solidFill>
                <a:latin typeface="CMMI10"/>
              </a:rPr>
              <a:t>d/t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R10"/>
              </a:rPr>
              <a:t>belo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milarity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documents by TFIDF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 between document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ine of angle between document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number of noisy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on of noise is applic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3BF-CA60-4ED4-A314-132620FBE0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 maximization (EM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bitrary ‘distribution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probability tha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from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distribution parameters from weighted contribution of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1DA-C3E4-440F-86CF-7B41D9212D7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xtended similarity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5505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I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y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scoo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eat garage to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pai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our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2-wheel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 and car co-occur of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s having related words are rel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 search and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basic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-made thesaurus (Word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-occurrence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6757920" y="5572080"/>
            <a:ext cx="1122480" cy="457920"/>
          </a:xfrm>
          <a:prstGeom prst="flowChartDocumen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19040" y="4732200"/>
            <a:ext cx="1209600" cy="457920"/>
          </a:xfrm>
          <a:prstGeom prst="flowChartDocumen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48240" y="1591560"/>
            <a:ext cx="1589400" cy="799200"/>
          </a:xfrm>
          <a:prstGeom prst="flowChartDocumen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…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… 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89720" y="1743840"/>
            <a:ext cx="1589400" cy="799200"/>
          </a:xfrm>
          <a:prstGeom prst="flowChartDocumen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…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… 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1896480"/>
            <a:ext cx="1589400" cy="799200"/>
          </a:xfrm>
          <a:prstGeom prst="flowChartDocumen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…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… 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80200" y="2914560"/>
            <a:ext cx="281160" cy="457200"/>
          </a:xfrm>
          <a:prstGeom prst="downArrow">
            <a:avLst>
              <a:gd name="adj1" fmla="val 50000"/>
              <a:gd name="adj2" fmla="val 40653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05000" y="35236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80200" y="4057560"/>
            <a:ext cx="281160" cy="457200"/>
          </a:xfrm>
          <a:prstGeom prst="downArrow">
            <a:avLst>
              <a:gd name="adj1" fmla="val 50000"/>
              <a:gd name="adj2" fmla="val 40653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37360" y="51238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716-A9D5-46CF-B9F2-0A486EC5FFB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3986280" y="2193120"/>
            <a:ext cx="3330000" cy="3446640"/>
            <a:chOff x="3986280" y="2193120"/>
            <a:chExt cx="3330000" cy="3446640"/>
          </a:xfrm>
        </p:grpSpPr>
        <p:sp>
          <p:nvSpPr>
            <p:cNvPr id="201" name=""/>
            <p:cNvSpPr/>
            <p:nvPr/>
          </p:nvSpPr>
          <p:spPr>
            <a:xfrm>
              <a:off x="6299640" y="2681280"/>
              <a:ext cx="1016640" cy="533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36480" y="2681280"/>
              <a:ext cx="516960" cy="533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86280" y="2681280"/>
              <a:ext cx="517320" cy="243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86280" y="2529000"/>
              <a:ext cx="517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15520" y="219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11440" y="527148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-dim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208" idx="3"/>
              <a:endCxn id="206" idx="0"/>
            </p:cNvCxnSpPr>
            <p:nvPr/>
          </p:nvCxnSpPr>
          <p:spPr>
            <a:xfrm>
              <a:off x="4784040" y="3900600"/>
              <a:ext cx="1240200" cy="1372320"/>
            </a:xfrm>
            <a:prstGeom prst="curved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210" idx="2"/>
              <a:endCxn id="206" idx="0"/>
            </p:cNvCxnSpPr>
            <p:nvPr/>
          </p:nvCxnSpPr>
          <p:spPr>
            <a:xfrm rot="5400000">
              <a:off x="5538960" y="4003560"/>
              <a:ext cx="1753560" cy="784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Latent semantic index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357200" y="2681280"/>
            <a:ext cx="1009800" cy="243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92680" y="23756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798840" y="36752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86280" y="2681280"/>
            <a:ext cx="798480" cy="243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57200" y="5272200"/>
            <a:ext cx="100980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9000" y="52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78240" y="2681280"/>
            <a:ext cx="0" cy="24382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0360" y="3793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86280" y="5272200"/>
            <a:ext cx="79848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54480" y="5271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35400" y="2681280"/>
            <a:ext cx="800280" cy="838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0720" y="2681280"/>
            <a:ext cx="1015920" cy="838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00720" y="2560680"/>
            <a:ext cx="101592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38840" y="222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3551400"/>
            <a:ext cx="966960" cy="735840"/>
          </a:xfrm>
          <a:prstGeom prst="rightArrow">
            <a:avLst>
              <a:gd name="adj1" fmla="val 50000"/>
              <a:gd name="adj2" fmla="val 32852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9800" y="1675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2"/>
            <a:endCxn id="203" idx="1"/>
          </p:cNvCxnSpPr>
          <p:nvPr/>
        </p:nvCxnSpPr>
        <p:spPr>
          <a:xfrm flipH="1" rot="16200000">
            <a:off x="2693160" y="2607120"/>
            <a:ext cx="1858320" cy="72936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827960" y="1675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endCxn id="210" idx="0"/>
          </p:cNvCxnSpPr>
          <p:nvPr/>
        </p:nvCxnSpPr>
        <p:spPr>
          <a:xfrm>
            <a:off x="5936760" y="1905120"/>
            <a:ext cx="872280" cy="77688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3997440" y="2918520"/>
            <a:ext cx="804600" cy="368280"/>
          </a:xfrm>
          <a:prstGeom prst="flowChartProcess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2400" y="4433040"/>
            <a:ext cx="804960" cy="368280"/>
          </a:xfrm>
          <a:prstGeom prst="flowChartProcess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9F9-BDBF-4886-BFD5-306D4965B70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907920" y="3435480"/>
          <a:ext cx="7359840" cy="208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3435480"/>
                    <a:ext cx="735984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907920" y="3436920"/>
          <a:ext cx="7361280" cy="2081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7920" y="3436920"/>
                    <a:ext cx="736128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ollaborative recommend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=record, movies=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and features to be clust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tual reinforcement of simi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advanced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913320" y="5826240"/>
            <a:ext cx="73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ustering methods in collaborative filter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ngar and Fo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BD3-AC72-4084-B5A0-67C640A14BD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 model for collabor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and movies belong to unknown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probability a random person is in clas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probability a random movie is in clas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k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probability of a class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erson liking a class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bbs sampling: ite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k a person or movie at random and assign to a class with probability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new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A3C-F9BB-470B-8340-25C717E3B47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adic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imity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nked preferenc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adic data : domain with two finite sets of objec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s : Of dyad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upervised learning from dyadic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ets of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714680" y="4562640"/>
                <a:ext cx="56005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20A-86A3-4C06-BCF2-8F4AABC4D41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 (contd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ain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abilistic modeling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a joint or conditional probability model o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 discove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ing clusters and data hierarch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768760" y="2349360"/>
                <a:ext cx="944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DFA-7F01-49CE-96E0-3CF49D57A60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stical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irical co-occurrence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paresen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irical frequencies either 0 or significantly corrupted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ampling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oo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-of method [Katz’8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 interpolation with held-out data [JM’80, Jel’85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ilarity-based smoothing techniques [ES’9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-based statistical approach: a principled approach to deal with data spars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94D-C6AF-4711-B40B-288FEF9BFCA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-based statistical approach: a principled approach to deal with data spars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Mixture Models [TSM’8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t class [And’97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pecification of a joint probability distribution for latent and observable variabl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[Hoffmann’98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odel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stic modeling by margi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tection (exploratory data analys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erior probabilities by baye’s rule on latent space of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80F-E1E1-40EF-AD6B-790AED6B153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ation of an underlying sequence of random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assum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o-occurrences in sample S are i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independent g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c) are the mixture compon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71440" y="1579680"/>
                <a:ext cx="2135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965320" y="2546280"/>
                <a:ext cx="2259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853320" y="4830840"/>
                <a:ext cx="3967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9480" y="4830840"/>
                <a:ext cx="893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4A0-DDA2-45ED-A171-6E608F26C06F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op-down 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Means: Repea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bitrary ‘centroid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each document to nearest centro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pute centro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 maximization (EM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bitrary ‘distribution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probability tha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from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distribution parameters from weighted contribution of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F81-57B5-48A2-B949-62B2F002B9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: Latent class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784520" y="2136600"/>
          <a:ext cx="5460840" cy="31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2136600"/>
                    <a:ext cx="5460840" cy="31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489480" y="5275440"/>
                <a:ext cx="253188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489480" y="1436760"/>
                <a:ext cx="19875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4960" y="4381560"/>
                <a:ext cx="2060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632640" y="4381560"/>
                <a:ext cx="2060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685800" y="2136600"/>
            <a:ext cx="0" cy="134316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20" y="671400"/>
            <a:ext cx="12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La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207-0C28-4494-88EC-2E74EA620B6E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252440" y="990720"/>
          <a:ext cx="6407280" cy="21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990720"/>
                    <a:ext cx="640728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1999800" y="32623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20920" y="326232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71600" y="3629160"/>
                <a:ext cx="50702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/>
                            </m:nary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[</m:t>
                                    </m:r>
                                  </m:e>
                                </m:nary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933720" y="5086440"/>
                <a:ext cx="483552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[</m:t>
                                    </m:r>
                                  </m:e>
                                </m:nary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431-C64F-4388-9C5F-4F824E0BEE67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ustering </a:t>
            </a:r>
            <a:r>
              <a:rPr b="0" i="1" lang="en-US" sz="3600" spc="-1" strike="noStrike">
                <a:solidFill>
                  <a:srgbClr val="3333cc"/>
                </a:solidFill>
                <a:latin typeface="Tahoma"/>
              </a:rPr>
              <a:t>vs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spect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ustering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ed aspect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fl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structure on object spaces as against partiti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.) : are the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{.}: are posteri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11240" y="1971720"/>
                <a:ext cx="63468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δalignl</m:t>
                    </m:r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eqAr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267000" y="2751120"/>
                <a:ext cx="1817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43240" y="3592440"/>
                <a:ext cx="3202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↑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96E-1901-4D2E-AB0F-71B7F403736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Hierarchical Clustering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22600" y="990720"/>
          <a:ext cx="6046560" cy="26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2600" y="990720"/>
                    <a:ext cx="604656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959840" y="363528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sided 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41680" y="36352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903840" y="5396040"/>
                <a:ext cx="48355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[</m:t>
                                    </m:r>
                                  </m:e>
                                </m:nary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C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[</m:t>
                                </m:r>
                              </m:e>
                            </m:nary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87200" y="4052880"/>
                <a:ext cx="65628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[</m:t>
                                    </m:r>
                                  </m:e>
                                </m:nary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C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[</m:t>
                                </m:r>
                              </m:e>
                            </m:nary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[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[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743-AED1-41BB-A2B3-D0421557F66D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omparison of E’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90640" y="1452600"/>
                <a:ext cx="6305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717640" y="2417760"/>
                <a:ext cx="53578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[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[</m:t>
                                </m:r>
                              </m:e>
                            </m:nary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790640" y="3960720"/>
                <a:ext cx="65404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[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790640" y="5504040"/>
                <a:ext cx="6667560" cy="93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685800" y="1258920"/>
            <a:ext cx="8070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sp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One-sided asp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Hierarchical asp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067-00EA-4874-83E1-C46668D507FE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empered EM(TEM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vely (on the log scale) discount the likelihood part in Baye’s formul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      and perform EM until the performance on held--out data deteriorates (early stopping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rease    e.g., by setting             with some rate parameter 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 long as the performance on held-out data improves continue TEM iterations at this value of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p on      i.e., stop when decreasing    does not yield further improvements, otherwise goto step (2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form some final iterations using both, training and heldout data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85800" y="4862520"/>
                <a:ext cx="77724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[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171880" y="2103480"/>
                <a:ext cx="15840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647800" y="2644920"/>
                <a:ext cx="158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352760" y="2644920"/>
                <a:ext cx="56844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η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7515360" y="2584440"/>
                <a:ext cx="5140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194000" y="3198960"/>
                <a:ext cx="158760" cy="21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568600" y="3457440"/>
                <a:ext cx="158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241960" y="3457440"/>
                <a:ext cx="158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DE3-F6DB-482B-A7EA-9FF4396B07F4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-Step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0" y="990720"/>
                <a:ext cx="4321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863960" y="990720"/>
                <a:ext cx="42800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'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22680" y="4892760"/>
                <a:ext cx="36194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θ</m:t>
                            </m:r>
                            <m:r>
                              <m:t xml:space="preserve">'</m:t>
                            </m:r>
                          </m:e>
                        </m:d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θ</m:t>
                            </m:r>
                            <m:r>
                              <m:t xml:space="preserve">'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892160" y="4906800"/>
                <a:ext cx="954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22680" y="3305160"/>
                <a:ext cx="42958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</m:sub>
                      <m:sup/>
                      <m:e/>
                    </m:nary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649520" y="3308400"/>
                <a:ext cx="95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414440" y="2266920"/>
                <a:ext cx="95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822920" y="1960560"/>
                <a:ext cx="4321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: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14120" y="687240"/>
            <a:ext cx="3070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sy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ierarchical x-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One-sided x-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04B-1265-4B7C-A293-E3D870508C24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xample Model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[Hofmann and Popat CIKM 2001]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of document categ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666800"/>
          <a:ext cx="674388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66800"/>
                    <a:ext cx="674388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DF0-3B37-4E11-998A-5440AE9B80C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Example Applicatio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61880" y="1616040"/>
          <a:ext cx="8159760" cy="41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616040"/>
                    <a:ext cx="815976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2B7-F22D-4609-9276-E7D7242055F6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opic Hierarchi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vercome sparseness problem in topic hierarchies with large number of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seness Problem: Small number of positiv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ic hierarchies to reduce variance in parameter est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ically differenti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use of term distributions estimated for more general, coarser text aspects to provide better, smoothed estimates of class conditional term dis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x combination of term distributions in a Hierarchical Mixtur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all inner nod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ve the terminal class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549600" y="5195880"/>
                <a:ext cx="2511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627200" y="5683320"/>
                <a:ext cx="217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42B-A146-4CD3-9C8E-A877D19DC1FA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`k’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problem dr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be ‘data driven’ only when ei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s not spa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 dimensions are not too noi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t interprets results of structure 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9F5-9463-4D6F-93DF-46F5A25C8C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opic Hierarchies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(Hierarchical X-clustering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86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= document, Y = w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19280" y="1801800"/>
                <a:ext cx="74214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</m:sub>
                      <m:sup/>
                      <m:e/>
                    </m:nary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46880" y="1801800"/>
            <a:ext cx="2593800" cy="106056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105600" y="4430880"/>
                <a:ext cx="95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85800" y="5351400"/>
                <a:ext cx="78008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[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↑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[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19280" y="3114720"/>
                <a:ext cx="8092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↑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6583320" y="2895480"/>
            <a:ext cx="2228760" cy="106056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84520" y="3114720"/>
            <a:ext cx="1458720" cy="54432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903240" y="4189320"/>
                <a:ext cx="32400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↑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903240" y="4206960"/>
            <a:ext cx="3240000" cy="93168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6880" y="5351400"/>
            <a:ext cx="3265200" cy="93204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BD2-6769-4B7F-AFAA-CB4987C8688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Document Classification Exercis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cation of Naïve Ba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149480" y="2786040"/>
                <a:ext cx="2511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1149480" y="2763720"/>
            <a:ext cx="2511360" cy="5097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220760" y="4016520"/>
                <a:ext cx="26748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1149480" y="3760920"/>
            <a:ext cx="2985840" cy="1616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C9F-01EB-45DC-BCBD-9A181FBEF824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ixture vs Shrinkag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Shrin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[McCallum Rosenfeld AAAI’98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ior nodes in the hierarchy represent coarser views of the data which are obtained by simple pooling scheme of term cou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Mixture 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terior nodes represent abstraction levels with their corresponding specific vocabul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efined hierarchy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[Hofmann and Popat CIKM 2001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on of hierarchical model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labeled d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[Hofmann IJCAI’9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92B-A78D-4E57-AA98-C226DF61B78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ixture Density Networks(MDN)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[Bishop CM ’94 Mixture Density Networks]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386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road and flexible class of distributions that are capable of modeling completely general continuous distrib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uperimpose simple component densities with well known properties to generate or approximate more complex distrib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wo modu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ixture models: Output has a distribution given as mixture of distribu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Neural Network: Outputs determine parameters of the mixture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138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DBF-FCD2-4E86-AF72-B42BD50BED6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DN: Exampl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471680" y="990720"/>
          <a:ext cx="6595920" cy="51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990720"/>
                    <a:ext cx="659592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222920" y="5967360"/>
            <a:ext cx="75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nditional mixture density network with Gaussian component den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B3C-5BD4-44D9-93E5-76BFFD27BE28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D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 Estimation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Generalized EM (GEM) algo to speed 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for a linear mixture, closed form solu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nte Carlo Simul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a substit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642-EAC1-4445-A173-E23789350820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er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documen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represent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number of tim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ccurs in documen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s are zeroes for a single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tone component-wise damping func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h as log or square-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Document mode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040280" y="1523880"/>
                <a:ext cx="3290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130400" y="2077920"/>
                <a:ext cx="1455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557440" y="5391000"/>
                <a:ext cx="4130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5F5-97FF-4D72-A50E-F1928A4FF759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‘k’ : Approach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is tes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Hypothesi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derlying density is a mixture of ‘k’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regularity conditions on the mixture likelihood functio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Smith’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yesian Est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posterior distribution on k, given data and prior on 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Computational complexity of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class algorithm of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Cheeseman’98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pproxim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Diebolt’94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s sampling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226-240F-4873-80F2-2690164869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oosing ‘k’ : Approach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alised Likeli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ccount for the fact that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) is a non-decreasing function of 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alise the number of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: Bayesian Information Criterion (BIC), Minimum Description Length(MDL), MM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ption: Penalised criteria are asymptotically optimal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itterington 19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Validation Likeli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ML estimate on part of train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k that maximises average of the M cross-validated average likelihoods on held-out data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 Validation techniques: Monte Carlo Cross Validation (MCCV), v-fold cross validation (vCV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935-64FC-4ECF-A2A9-347BA8C435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ust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3080" y="2819160"/>
            <a:ext cx="77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imilarity and clustering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6:13:29Z</dcterms:created>
  <dc:creator>Ganesh ramakrishnan</dc:creator>
  <dc:description/>
  <dc:language>en-US</dc:language>
  <cp:lastModifiedBy>Ganesh Ramakrishnan</cp:lastModifiedBy>
  <cp:lastPrinted>1999-05-05T15:03:01Z</cp:lastPrinted>
  <dcterms:modified xsi:type="dcterms:W3CDTF">2003-07-17T21:15:42Z</dcterms:modified>
  <cp:revision>125</cp:revision>
  <dc:subject/>
  <dc:title>cluster</dc:title>
</cp:coreProperties>
</file>