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4C49-CC75-4693-9B21-DCC5BFA76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7DBE-5A89-4551-B503-1EF3D37C9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55A5-A82A-4F28-A378-FA3B744B9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3D79-BD53-4950-888C-DF164C99E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37CB3-A5FE-49A8-9DA9-E56B40DAE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93720-B34C-4EB3-82D6-EEDDC3815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93146-E33A-43F8-8107-915FA1C75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AE190-E3B4-486D-8178-E3491CF3B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41D87-FEAD-4D35-9DF2-01CD3EAB6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E5EA5-5AB2-43BE-8668-5E92808F8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DAD64-CB3F-4481-855A-7BA772BB1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6D48-4FAC-486F-8E05-ADA0F6914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4843A-1B44-4543-8713-43C17FD21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7E2C8-3496-41B9-8E3D-31AE64889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2F708-152B-457E-8D9E-794327B1E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FD826-F2F5-4F16-B9EC-5682A92D7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8D363-4163-4226-A83A-F8F20A366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EAC8-89D0-4CB4-879E-3BB465527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C14F-D8DC-4EC7-B047-875CF6208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24DE-AB17-4D25-B28A-6C944346D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0C34-375D-4569-B636-83E8DC53C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6A68-7D5A-44FB-8DFD-2681AFF21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BAFA-4456-4290-A87F-92F454899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1832-F835-4B38-BE99-F7B2090FC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F7D01-F0C2-4344-933A-C71BDE270F9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FB226-0691-4EC4-AB12-FCE57391DA7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333399"/>
                </a:solidFill>
                <a:latin typeface="Arial"/>
              </a:rPr>
              <a:t>Exposición: Cluste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Arial"/>
              </a:rPr>
              <a:t>Juan de Dios Murillo Morer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Arial"/>
              </a:rPr>
              <a:t>A3752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Miércoles 9 de Junio,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1376640" y="609480"/>
            <a:ext cx="68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333399"/>
                </a:solidFill>
                <a:latin typeface="Arial"/>
              </a:rPr>
              <a:t>Universidad de Costa R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Procedimiento de oper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Pas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Limpiar” los document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Identificar los clusters b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Combinar los clusters ba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Limpiar” los document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La cadena de texto que representa cada documentos es   transformado haciendo uso de un algoritmo de stemm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e eliminan los prefijos y sufijo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e pasa de plural a singul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e eliminan los tags así como signos de puntuación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Identificar los clusters ba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stá compuesto de una </a:t>
            </a:r>
            <a:r>
              <a:rPr b="0" lang="es-ES" sz="2000" spc="-1" strike="noStrike">
                <a:solidFill>
                  <a:srgbClr val="3333cc"/>
                </a:solidFill>
                <a:latin typeface="Tahoma"/>
              </a:rPr>
              <a:t>raíz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que direcciona el árb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ada nodo interno </a:t>
            </a:r>
            <a:r>
              <a:rPr b="0" lang="es-ES" sz="2000" spc="-1" strike="noStrike">
                <a:solidFill>
                  <a:srgbClr val="3333cc"/>
                </a:solidFill>
                <a:latin typeface="Tahoma"/>
              </a:rPr>
              <a:t>tiene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Tahoma"/>
              </a:rPr>
              <a:t>dos hijos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ada línea entre nodos está </a:t>
            </a:r>
            <a:r>
              <a:rPr b="0" lang="es-ES" sz="2000" spc="-1" strike="noStrike">
                <a:solidFill>
                  <a:srgbClr val="3333cc"/>
                </a:solidFill>
                <a:latin typeface="Tahoma"/>
              </a:rPr>
              <a:t>etiquetada con un sub-string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del string(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Ninguna de las aristas fuera del mismo nodo pueden tener las etiquetas que comiencen con la misma palab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uede verse como la creación de un </a:t>
            </a:r>
            <a:r>
              <a:rPr b="0" lang="es-ES" sz="2000" spc="-1" strike="noStrike">
                <a:solidFill>
                  <a:srgbClr val="3333cc"/>
                </a:solidFill>
                <a:latin typeface="Tahoma"/>
              </a:rPr>
              <a:t>índice invertido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Identificar los clusters base(cont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838080" y="3429000"/>
          <a:ext cx="7772400" cy="304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429000"/>
                    <a:ext cx="7772400" cy="304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2362320" y="3809880"/>
            <a:ext cx="457200" cy="2743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219320" y="2209680"/>
            <a:ext cx="129528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1752480"/>
            <a:ext cx="1523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lusters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Combinar los clusters ba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762120" y="28195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Los documentos pueden compartir más de una frase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Los  documentos de distintas bases pueden aplicar overla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990720" y="3886200"/>
          <a:ext cx="7162560" cy="29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86200"/>
                    <a:ext cx="716256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3124080" y="6324480"/>
            <a:ext cx="2667240" cy="533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0000"/>
                </a:solidFill>
                <a:latin typeface="Tahoma"/>
              </a:rPr>
              <a:t>Clustering de clustering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457200" y="3124080"/>
          <a:ext cx="853452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124080"/>
                    <a:ext cx="853452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Diagrama del árbol de sufij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1600200" y="1752480"/>
            <a:ext cx="5486400" cy="13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das las siguientes caden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fcf0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adena1: “cat ate cheese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fcf0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adena2: “mouse ate cheese too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fcf0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adena3: “cat ate mouse too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257800" y="1752480"/>
            <a:ext cx="2819520" cy="10670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Objetivo:</a:t>
            </a:r>
            <a:r>
              <a:rPr b="0" lang="es-ES" sz="1000" spc="-1" strike="noStrike">
                <a:solidFill>
                  <a:srgbClr val="000000"/>
                </a:solidFill>
                <a:latin typeface="Tahoma"/>
              </a:rPr>
              <a:t> Agrupar documentos qu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ahoma"/>
              </a:rPr>
              <a:t>compartan temas comunes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333399"/>
                </a:solidFill>
                <a:latin typeface="Arial"/>
              </a:rPr>
              <a:t>Experimento #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o de frases para identificar los cluster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s clusters usan overlappin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2 % de los documentos fueron puestos en más de un cluste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 trabajaron 10 colecciones de documentos de 200 documento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752480" y="3352680"/>
          <a:ext cx="4876920" cy="3505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3352680"/>
                    <a:ext cx="487692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333399"/>
                </a:solidFill>
                <a:latin typeface="Arial"/>
              </a:rPr>
              <a:t>Experimento #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 frases son claves  para identificar los clusters así como también el overla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2362320" y="3048120"/>
          <a:ext cx="441648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3048120"/>
                    <a:ext cx="441648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333399"/>
                </a:solidFill>
                <a:latin typeface="Arial"/>
              </a:rPr>
              <a:t>Experimento # 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uso de frases son claves en STC y el de palabras   en el de GAH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diferencia de K-Means entre el uso de frases y no uso de las mismas es más pequeño en relación con el de S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2209680" y="3200400"/>
          <a:ext cx="4364280" cy="365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200400"/>
                    <a:ext cx="436428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333399"/>
                </a:solidFill>
                <a:latin typeface="Arial"/>
              </a:rPr>
              <a:t>Experimento # 4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impacto de K-Means y Buckshot en relación a overlap es considerablemente pequeñ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590920" y="2819520"/>
          <a:ext cx="3643200" cy="4038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2819520"/>
                    <a:ext cx="364320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333399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Motiv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Qué es clustering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Mod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Conceptos importantes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Algunos algoritmos utilizad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El algoritmo de árbol de sufijos(ST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Resultados y evaluaciones de algoritmos de clust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Conclusion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333399"/>
                </a:solidFill>
                <a:latin typeface="Arial"/>
              </a:rPr>
              <a:t>Experimento # 4 (cont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los documentos aparecen en múltiples clust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-) Es ventajoso si el doc es relevan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-) Es desventajoso si el documento es irrelevante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828800" y="3657600"/>
          <a:ext cx="11201400" cy="197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3657600"/>
                    <a:ext cx="11201400" cy="19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333399"/>
                </a:solidFill>
                <a:latin typeface="Arial"/>
              </a:rPr>
              <a:t>Propuesta de artículo de investig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mplementar un algoritmo de los descritos y hacer un análisis de resultados en términos de tiempo, precisión, agrupamiento de documentos et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333399"/>
                </a:solidFill>
                <a:latin typeface="Arial"/>
              </a:rPr>
              <a:t>Conclu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Arial"/>
              </a:rPr>
              <a:t>El clustering es un método de recuparar la información a través del agrupamiento de documentos en base a temas específi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Arial"/>
              </a:rPr>
              <a:t>Una secuencia ordenada de palabras es mucho más significativas que simples palabras clav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Arial"/>
              </a:rPr>
              <a:t>El uso del custering facilitaría al usuario localizar rapidamente la información espera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Arial"/>
              </a:rPr>
              <a:t>El STC es mucho más rápido que el uso tradicional de cluster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cias!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10663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Motivaci</a:t>
            </a:r>
            <a:r>
              <a:rPr b="0" lang="es-CR" sz="4400" spc="-1" strike="noStrike">
                <a:solidFill>
                  <a:srgbClr val="333399"/>
                </a:solidFill>
                <a:latin typeface="Arial"/>
              </a:rPr>
              <a:t>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3657600"/>
            <a:ext cx="7772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0000"/>
                </a:solidFill>
                <a:latin typeface="Arial"/>
              </a:rPr>
              <a:t>Problema:</a:t>
            </a:r>
            <a:r>
              <a:rPr b="0" lang="es-CR" sz="2000" spc="-1" strike="noStrike">
                <a:solidFill>
                  <a:srgbClr val="3333cc"/>
                </a:solidFill>
                <a:latin typeface="Arial"/>
              </a:rPr>
              <a:t> La baja precisión del Web </a:t>
            </a:r>
            <a:r>
              <a:rPr b="0" lang="es-CR" sz="2000" spc="-1" strike="noStrike">
                <a:solidFill>
                  <a:srgbClr val="ffcf01"/>
                </a:solidFill>
                <a:latin typeface="Arial"/>
              </a:rPr>
              <a:t>search engine</a:t>
            </a:r>
            <a:r>
              <a:rPr b="0" lang="es-CR" sz="2000" spc="-1" strike="noStrike">
                <a:solidFill>
                  <a:srgbClr val="3333cc"/>
                </a:solidFill>
                <a:latin typeface="Arial"/>
              </a:rPr>
              <a:t> hace dificil para el usuario la tarea  de localizar rapidamente la información esper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0000"/>
                </a:solidFill>
                <a:latin typeface="Arial"/>
              </a:rPr>
              <a:t>Solu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Arial"/>
              </a:rPr>
              <a:t>Web Document Clust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333399"/>
                </a:solidFill>
                <a:latin typeface="Arial"/>
              </a:rPr>
              <a:t>Qué es  Clustering 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Arial"/>
              </a:rPr>
              <a:t>Es un método alternativo que permite organizar los resultados obtenidos a través de grupos de documentos(cluster base) tomando en cuenta algún tópico en espec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Arial"/>
              </a:rPr>
              <a:t>Según el artículo es una técnica para presentar los documentos despúes de haberlos recuperado en grupos pequeños que están relacionados por un tema en espec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333399"/>
                </a:solidFill>
                <a:latin typeface="Arial"/>
              </a:rPr>
              <a:t>Modelo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3886200"/>
            <a:ext cx="1143000" cy="6094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新細明體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705720" y="2819520"/>
            <a:ext cx="1828800" cy="228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新細明體"/>
              </a:rPr>
              <a:t>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新細明體"/>
              </a:rPr>
              <a:t>Eng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819520"/>
            <a:ext cx="1600200" cy="1447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新細明體"/>
              </a:rPr>
              <a:t>Clust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新細明體"/>
              </a:rPr>
              <a:t>Eng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"/>
          <p:cNvCxnSpPr>
            <a:stCxn id="109" idx="2"/>
            <a:endCxn id="110" idx="2"/>
          </p:cNvCxnSpPr>
          <p:nvPr/>
        </p:nvCxnSpPr>
        <p:spPr>
          <a:xfrm flipH="1" rot="16200000">
            <a:off x="4133880" y="1618920"/>
            <a:ext cx="610560" cy="6363360"/>
          </a:xfrm>
          <a:prstGeom prst="bentConnector3">
            <a:avLst>
              <a:gd name="adj1" fmla="val 137463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13" name=""/>
          <p:cNvSpPr/>
          <p:nvPr/>
        </p:nvSpPr>
        <p:spPr>
          <a:xfrm>
            <a:off x="2895480" y="49528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新細明體"/>
              </a:rPr>
              <a:t>qu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"/>
          <p:cNvCxnSpPr>
            <a:stCxn id="110" idx="1"/>
            <a:endCxn id="111" idx="3"/>
          </p:cNvCxnSpPr>
          <p:nvPr/>
        </p:nvCxnSpPr>
        <p:spPr>
          <a:xfrm rot="10800000">
            <a:off x="5028480" y="3542760"/>
            <a:ext cx="1677240" cy="4197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15" name=""/>
          <p:cNvCxnSpPr>
            <a:stCxn id="111" idx="1"/>
            <a:endCxn id="109" idx="3"/>
          </p:cNvCxnSpPr>
          <p:nvPr/>
        </p:nvCxnSpPr>
        <p:spPr>
          <a:xfrm flipV="1" rot="10800000">
            <a:off x="1828080" y="3542400"/>
            <a:ext cx="1600920" cy="6483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16" name=""/>
          <p:cNvSpPr/>
          <p:nvPr/>
        </p:nvSpPr>
        <p:spPr>
          <a:xfrm>
            <a:off x="1828800" y="31240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新細明體"/>
              </a:rPr>
              <a:t>clu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333399"/>
                </a:solidFill>
                <a:latin typeface="Arial"/>
              </a:rPr>
              <a:t>Requerimientos principale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000000"/>
                </a:solidFill>
                <a:latin typeface="Arial"/>
              </a:rPr>
              <a:t>Relevance:</a:t>
            </a: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 método que produce clusters que agrupan los documentos relevantes separandolos de los irrelevan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000000"/>
                </a:solidFill>
                <a:latin typeface="Arial"/>
              </a:rPr>
              <a:t>Browsable Summaries:</a:t>
            </a: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 Cuando el usuario necesita determinar si los contenidos de un cluster son de interés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000000"/>
                </a:solidFill>
                <a:latin typeface="Arial"/>
              </a:rPr>
              <a:t>Overlap: </a:t>
            </a: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Es importante por que se asigna un documento a más de un cluste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000000"/>
                </a:solidFill>
                <a:latin typeface="Arial"/>
              </a:rPr>
              <a:t>Snippets : </a:t>
            </a: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Lista de documentos ordenadas por orden de relevancia, relativamente pequeñ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333399"/>
                </a:solidFill>
                <a:latin typeface="Arial"/>
              </a:rPr>
              <a:t>Ejemplo #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429000" y="1905120"/>
            <a:ext cx="5486400" cy="46479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533520" y="1981080"/>
            <a:ext cx="27432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mpartir frases en un clustering es una forma de resumir su contenid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10663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Algunos algoritmos utilizad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295280" y="34290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Single-Pass: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es el </a:t>
            </a:r>
            <a:r>
              <a:rPr b="0" lang="es-ES" sz="2000" spc="-1" strike="noStrike">
                <a:solidFill>
                  <a:srgbClr val="3333cc"/>
                </a:solidFill>
                <a:latin typeface="Tahoma"/>
              </a:rPr>
              <a:t>más popular de los algoritmos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incrementales, sin embargo tiene tendencia a producir clusters larg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K-means: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permite aplicar overlapping y es una aproximación de GAH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Buckshot y Fractionation :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son </a:t>
            </a:r>
            <a:r>
              <a:rPr b="0" lang="es-ES" sz="2000" spc="-1" strike="noStrike">
                <a:solidFill>
                  <a:srgbClr val="3333cc"/>
                </a:solidFill>
                <a:latin typeface="Tahoma"/>
              </a:rPr>
              <a:t>más rápido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que los dos primer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STC: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árbol de sufijos, a diferencia de los anteriores tratan a los documentos como una </a:t>
            </a:r>
            <a:r>
              <a:rPr b="0" lang="es-ES" sz="2000" spc="-1" strike="noStrike">
                <a:solidFill>
                  <a:srgbClr val="3333cc"/>
                </a:solidFill>
                <a:latin typeface="Tahoma"/>
              </a:rPr>
              <a:t>secuencia ordenada de palabr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Suffix Tree Clustering (STC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s un algoritmo de cluster de tiempo lineal, que está basado en el árbol de sufijos y el cual con eficiencia identifica el </a:t>
            </a:r>
            <a:r>
              <a:rPr b="0" lang="es-ES" sz="2000" spc="-1" strike="noStrike">
                <a:solidFill>
                  <a:srgbClr val="3333cc"/>
                </a:solidFill>
                <a:latin typeface="Tahoma"/>
              </a:rPr>
              <a:t>conjunto de documentos que comparten frases comun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l STC trata los </a:t>
            </a:r>
            <a:r>
              <a:rPr b="0" lang="es-ES" sz="2000" spc="-1" strike="noStrike">
                <a:solidFill>
                  <a:srgbClr val="3333cc"/>
                </a:solidFill>
                <a:latin typeface="Tahoma"/>
              </a:rPr>
              <a:t>documentos como un conjunto de strings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y  hace uso de información próxima entre palabr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Tahoma"/>
              </a:rPr>
              <a:t>Resume el contenido de los clusters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para los usuari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s bastante </a:t>
            </a:r>
            <a:r>
              <a:rPr b="0" lang="es-ES" sz="2000" spc="-1" strike="noStrike">
                <a:solidFill>
                  <a:srgbClr val="3333cc"/>
                </a:solidFill>
                <a:latin typeface="Tahoma"/>
              </a:rPr>
              <a:t>rápido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por que trabaja con un </a:t>
            </a:r>
            <a:r>
              <a:rPr b="0" lang="es-ES" sz="2000" spc="-1" strike="noStrike">
                <a:solidFill>
                  <a:srgbClr val="3333cc"/>
                </a:solidFill>
                <a:latin typeface="Tahoma"/>
              </a:rPr>
              <a:t>conjunto pequeño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de </a:t>
            </a:r>
            <a:r>
              <a:rPr b="0" lang="es-ES" sz="2000" spc="-1" strike="noStrike">
                <a:solidFill>
                  <a:srgbClr val="3333cc"/>
                </a:solidFill>
                <a:latin typeface="Tahoma"/>
              </a:rPr>
              <a:t>documentos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en forma incremental e independiente.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2T05:39:02Z</dcterms:created>
  <dc:creator>George</dc:creator>
  <dc:description/>
  <dc:language>en-US</dc:language>
  <cp:lastModifiedBy>wolf</cp:lastModifiedBy>
  <dcterms:modified xsi:type="dcterms:W3CDTF">2004-06-12T22:51:13Z</dcterms:modified>
  <cp:revision>112</cp:revision>
  <dc:subject/>
  <dc:title>Recuperación de Información  Lematización</dc:title>
</cp:coreProperties>
</file>