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B15-3AF9-4EFC-8C25-F8F278F6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3B5-26DB-4711-B029-C22B5D5C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154-5FA4-4DB4-881C-B9C78639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4E8-29B8-44AC-A3DB-37D697F8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7AA8-D860-4DFD-A82E-7C2F40C8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9C5B-B056-451D-B10C-E6302925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E148-20DB-4C20-9512-A31C5A36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BD2D-213E-4C11-8C24-6E1408C9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77A-4B73-44CD-A1A4-2DDB57B5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0C4-C5DB-45F4-AB41-981FF844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89F5-238B-4D8A-A7EB-D590979C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1CD-B6C4-4FD5-9F71-F66D89EB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7766-9A17-4EF3-AF86-9ECFD0B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ED32-60CA-4CF6-AEDC-3ABCBB0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4813-8C12-4CED-AD59-A1A4815E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6303-190D-45F5-9824-DB088857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97E-8C05-498D-A2CD-8994F7EE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BBD-EB4E-4926-B3AC-C5A66EDA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A23-F348-4B2A-862A-36B5822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AEF-B85B-45F5-9F61-998A9E90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D18-AB87-4AEF-9F71-2DE9A90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DDF-E2A5-4224-B5E5-E8D0A53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298-76C1-4B30-8559-1B591E4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675-B241-4439-B026-DCC4E7B9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AF34-BC90-433F-9A3B-1D24056B2D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ACF0-B79C-4832-A02B-267BDEA4A7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osición: Clust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Juan de Dios Murillo Mor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A375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iércoles 9 de Junio,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609480"/>
            <a:ext cx="68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Universidad de Costa 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 de ope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impiar” los docu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dentificar los clusters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binar los clusters 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impiar” los docum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adena de texto que representa cada documentos es   transformado haciendo uso de un algoritmo de stemm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minan los prefijos y sufij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asa de plural a sin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minan los tags así como signos de puntua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Identificar los clusters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á compuesto de una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aíz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que direcciona el árb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nodo interno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tien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s hij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línea entre nodos está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etiquetada con un sub-string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l string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inguna de las aristas fuera del mismo nodo pueden tener las etiquetas que comiencen con la misma pala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ede verse como la creación de u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índice invert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Identificar los clusters base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3429000"/>
          <a:ext cx="777240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429000"/>
                    <a:ext cx="777240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362320" y="3809880"/>
            <a:ext cx="45720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209680"/>
            <a:ext cx="1295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uster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mbinar los clusters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documentos pueden compartir más de una fra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 documentos de distintas bases pueden aplicar overl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3886200"/>
          <a:ext cx="71625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7162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124080" y="6324480"/>
            <a:ext cx="26672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Tahoma"/>
              </a:rPr>
              <a:t>Clustering de clusteri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3124080"/>
          <a:ext cx="85345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534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agrama del árbol de sufij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752480"/>
            <a:ext cx="54864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das las siguientes cade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1: “cat ate chees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2: “mouse ate cheese to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ena3: “cat ate mouse to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1752480"/>
            <a:ext cx="2819520" cy="10670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Objetivo: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Agrupar documentos 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compartan temas comu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o de frases para identificar los clus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clusters usan overlap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 % de los documentos fueron puestos en más de un clus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trabajaron 10 colecciones de documentos de 200 documen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52480" y="3352680"/>
          <a:ext cx="487692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2680"/>
                    <a:ext cx="4876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frases son claves  para identificar los clusters así como también el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362320" y="3048120"/>
          <a:ext cx="441648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048120"/>
                    <a:ext cx="4416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uso de frases son claves en STC y el de palabras   en el de GAH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ferencia de K-Means entre el uso de frases y no uso de las mismas es más pequeño en relación con el de S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3200400"/>
          <a:ext cx="43642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364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mpacto de K-Means y Buckshot en relación a overlap es considerablemente peque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2819520"/>
          <a:ext cx="364320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19520"/>
                    <a:ext cx="36432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Qué es clustering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nceptos importantes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lgunos algoritmos utiliz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l algoritmo de árbol de sufijos(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sultados y evaluaciones de algoritmos de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nclu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xperimento # 4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s documentos aparecen en múltiples clust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) Es ventajoso si el doc es releva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) Es desventajoso si el documento es irrelevant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28800" y="3657600"/>
          <a:ext cx="1120140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657600"/>
                    <a:ext cx="112014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Propuesta de artículo de investig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r un algoritmo de los descritos y hacer un análisis de resultados en términos de tiempo, precisión, agrupamiento de documento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clustering es un método de recuparar la información a través del agrupamiento de documentos en base a temas específ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Una secuencia ordenada de palabras es mucho más significativas que simples palabras cla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uso del custering facilitaría al usuario localizar rapidamente la información espe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STC es mucho más rápido que el uso tradicional de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ia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otivaci</a:t>
            </a: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657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0000"/>
                </a:solidFill>
                <a:latin typeface="Arial"/>
              </a:rPr>
              <a:t>Problema:</a:t>
            </a:r>
            <a:r>
              <a:rPr b="0" lang="es-CR" sz="2000" spc="-1" strike="noStrike">
                <a:solidFill>
                  <a:srgbClr val="3333cc"/>
                </a:solidFill>
                <a:latin typeface="Arial"/>
              </a:rPr>
              <a:t> La baja precisión del Web </a:t>
            </a:r>
            <a:r>
              <a:rPr b="0" lang="es-CR" sz="2000" spc="-1" strike="noStrike">
                <a:solidFill>
                  <a:srgbClr val="ffcf01"/>
                </a:solidFill>
                <a:latin typeface="Arial"/>
              </a:rPr>
              <a:t>search engine</a:t>
            </a:r>
            <a:r>
              <a:rPr b="0" lang="es-CR" sz="2000" spc="-1" strike="noStrike">
                <a:solidFill>
                  <a:srgbClr val="3333cc"/>
                </a:solidFill>
                <a:latin typeface="Arial"/>
              </a:rPr>
              <a:t> hace dificil para el usuario la tarea  de localizar rapidamente la información esp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0000"/>
                </a:solidFill>
                <a:latin typeface="Arial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Web Document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Qué es  Clustering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s un método alternativo que permite organizar los resultados obtenidos a través de grupos de documentos(cluster base) tomando en cuenta algún tópico en espe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egún el artículo es una técnica para presentar los documentos despúes de haberlos recuperado en grupos pequeños que están relacionados por un tema en espe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Model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86200"/>
            <a:ext cx="114300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819520"/>
            <a:ext cx="182880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819520"/>
            <a:ext cx="160020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2"/>
            <a:endCxn id="110" idx="2"/>
          </p:cNvCxnSpPr>
          <p:nvPr/>
        </p:nvCxnSpPr>
        <p:spPr>
          <a:xfrm flipH="1" rot="16200000">
            <a:off x="4133880" y="1618920"/>
            <a:ext cx="610560" cy="6363360"/>
          </a:xfrm>
          <a:prstGeom prst="bentConnector3">
            <a:avLst>
              <a:gd name="adj1" fmla="val 13746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3" name=""/>
          <p:cNvSpPr/>
          <p:nvPr/>
        </p:nvSpPr>
        <p:spPr>
          <a:xfrm>
            <a:off x="2895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0" idx="1"/>
            <a:endCxn id="111" idx="3"/>
          </p:cNvCxnSpPr>
          <p:nvPr/>
        </p:nvCxnSpPr>
        <p:spPr>
          <a:xfrm rot="10800000">
            <a:off x="5028480" y="3542760"/>
            <a:ext cx="1677240" cy="41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5" name=""/>
          <p:cNvCxnSpPr>
            <a:stCxn id="111" idx="1"/>
            <a:endCxn id="109" idx="3"/>
          </p:cNvCxnSpPr>
          <p:nvPr/>
        </p:nvCxnSpPr>
        <p:spPr>
          <a:xfrm flipV="1" rot="10800000">
            <a:off x="1828080" y="3542400"/>
            <a:ext cx="160092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8288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Requerimientos princip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Relevance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método que produce clusters que agrupan los documentos relevantes separandolos de los irrelev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Browsable Summaries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Cuando el usuario necesita determinar si los contenidos de un cluster son de interé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Overlap: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 importante por que se asigna un documento a más de un clust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Snippets :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ista de documentos ordenadas por orden de relevancia, relativamente pequ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333399"/>
                </a:solidFill>
                <a:latin typeface="Arial"/>
              </a:rPr>
              <a:t>Ejemplo #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548640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981080"/>
            <a:ext cx="2743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tir frases en un clustering es una forma de resumir su conte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lgunos algoritmos utiliz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ngle-Pas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s el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ás popular de los algoritm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incrementales, sin embargo tiene tendencia a producir clusters larg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K-mean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ermite aplicar overlapping y es una aproximación de GAH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Buckshot y Fractionation 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so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ás ráp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que los dos prime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TC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árbol de sufijos, a diferencia de los anteriores tratan a los documentos como una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secuencia ordenada de pala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ffix Tree Clustering (ST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un algoritmo de cluster de tiempo lineal, que está basado en el árbol de sufijos y el cual con eficiencia identifica el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conjunto de documentos que comparten frases comu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STC trata los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cumentos como un conjunto de string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y  hace uso de información próxima entre pala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esume el contenido de los cluster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ara los usu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bastante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ápi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por que trabaja con un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conjunto pequeñ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document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n forma incremental e independient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5:39:02Z</dcterms:created>
  <dc:creator>George</dc:creator>
  <dc:description/>
  <dc:language>en-US</dc:language>
  <cp:lastModifiedBy>wolf</cp:lastModifiedBy>
  <dcterms:modified xsi:type="dcterms:W3CDTF">2004-06-12T22:51:13Z</dcterms:modified>
  <cp:revision>112</cp:revision>
  <dc:subject/>
  <dc:title>Recuperación de Información  Lematización</dc:title>
</cp:coreProperties>
</file>