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53FD-EFE9-49B8-8FB8-2537618C86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. Ribert, A. Ennaji, Y. Lecourtier, “Clustering data: Dealing with high density variations”,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clusters with the smallest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clusters where the longest distance between their furthest points is minimized (so a merger will have the smallest circumfe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 the clusters which would have the smallest average distance when they are me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clusters with the closest centr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Duda and Hart “Pattern classification and scene analysis”, p. 22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user must pre-specify the desired number of clust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 that the quality of the clustering is highly dependent on the initial cluster assig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70D-B93E-4465-9FB5-CC89C902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D8E-BAC6-4032-A67E-8C37CDBD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BB1-40DB-4F00-BB0C-30E1C500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26B-8791-43C0-B2E8-9FBE4691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D3AC-06C1-4109-8297-ECE4448F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1833-50DC-45BC-84AD-484DA6F8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0E78-8DF2-44C4-A1B8-61E98140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E96B-5DF3-41F6-8779-830DED21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DA04-204B-49F0-8956-44D8EAA3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19A3-1159-4B33-8730-091EFEF7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88A5-A0EA-4684-84A4-57466FB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594-C385-49FE-8540-1CE4B67A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14E5-0CE2-4295-8A9B-C090587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F3CD-0E37-4B5C-9F43-FD1A5B80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2C68-4DAF-4811-B291-E20BEFD8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F419-8202-4E2A-B862-F089CCD5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8086-F6B3-44D0-A4DE-DFCA059C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B04-4603-46F6-84F1-E75D6B9C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6B8-E40B-4A55-99BC-B2DCE9B6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6D6-1C74-4972-915C-47BE1828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35A-EC8F-4C3F-A63A-215480DD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3C3-9084-45BF-88ED-815B8185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4A0-AE72-40D6-B87E-58366157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C6D-F8DE-4C53-BBB9-85BF3F97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ctur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895480" y="63244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ge </a:t>
            </a:r>
            <a:fld id="{8EFF7055-21AF-451F-9831-FCB289222F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B0C8-8491-40BA-98EF-D3A121A9B3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ocument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l Stael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erarchical Agglom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 single-document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two clusters with greatest simi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2590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3352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29718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41911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4495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4267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41911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29718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28195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2971800"/>
            <a:ext cx="30492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2590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733920"/>
            <a:ext cx="152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6600" y="3733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5053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4267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45720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95D-594F-4D28-BB48-9D976AD583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erarchical Agglom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 single-document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two clusters with greatest simi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2590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3352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9718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41911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29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866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62920" y="4495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4267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41911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2819520"/>
            <a:ext cx="1522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971800"/>
            <a:ext cx="30492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2590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3733920"/>
            <a:ext cx="152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3733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053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44956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91520" y="4267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45720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594-28F3-41CC-8F24-970526B2AD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erarchical Agglom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cal agglomerative clustering gives a hierarchy of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akes it easier to explore the set of possible k-cluster values to choose the best number of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5867280" y="55627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55627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01000" y="5562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943600" y="5410080"/>
            <a:ext cx="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43600" y="5410080"/>
            <a:ext cx="152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095880" y="5410080"/>
            <a:ext cx="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553080" y="525744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705720" y="525744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162920" y="4800240"/>
            <a:ext cx="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543800" y="4952880"/>
            <a:ext cx="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848720" y="51055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077320" y="51055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924680" y="4952880"/>
            <a:ext cx="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29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19920" y="4648320"/>
            <a:ext cx="0" cy="761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858000" y="4647960"/>
            <a:ext cx="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696080" y="449568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086600" y="4191120"/>
            <a:ext cx="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400800" y="4495680"/>
            <a:ext cx="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00800" y="449568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43800" y="49528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51055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5257800"/>
            <a:ext cx="152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46483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29400" y="48006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47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4876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0828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27400" y="4648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828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F19-C2AD-4CFF-BAA4-CBB9AA25F2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gh density var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 “correct”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248520" y="3276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35812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58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36576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7220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220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32004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35812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35053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771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771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2200" y="3352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7220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32767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19920" y="3581280"/>
            <a:ext cx="3045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1320" y="4419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4343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72200" y="49528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4480" y="4495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91320" y="4800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86600" y="4419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0120" y="40384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91520" y="4648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20120" y="4343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01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10280" y="2590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38880" y="41911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0" y="28954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2362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43800" y="2514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53080" y="2590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24480" y="48006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86600" y="2209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5000" y="4191120"/>
            <a:ext cx="838080" cy="99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2133720"/>
            <a:ext cx="1219320" cy="121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35053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32004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3962520"/>
            <a:ext cx="91440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560-87CD-464D-9167-AE58327EFF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gh density var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 “correct”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C-generated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3276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53080" y="35812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58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7712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36576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7220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3657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32004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5880" y="35812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35053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771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3352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5880" y="32767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3600" y="3124080"/>
            <a:ext cx="83808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4419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4343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49528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24480" y="4495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4800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4419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0120" y="40384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91520" y="4648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0120" y="4343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201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2590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1520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152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238880" y="41911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28954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362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25146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2590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24480" y="48006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86600" y="2209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4191120"/>
            <a:ext cx="838080" cy="99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53080" y="2057400"/>
            <a:ext cx="7621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10280" y="4114800"/>
            <a:ext cx="38124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438280"/>
            <a:ext cx="53352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15200" y="4038480"/>
            <a:ext cx="60948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0E1-0182-458D-94BF-29DEBB190F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yb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HAC and iterative clus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points to initial clusters using H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il 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a candidate poi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in clust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“best” clust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n mov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6B3-AFF3-4CBC-B529-E81EB3C4C7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Vector Clus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Bottlen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964-CED8-4ABA-B8CD-59B0D286E5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gh density var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5C8-B536-4E1F-8357-FF116FD75F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hard to rapidly understand a big bucket of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s look for patterns, and are good at pattern ma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” collections of documents don’t have a recognizabl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documents into recognizable groups makes it easier to see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apidly eliminate irrelevant clu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8D4-C399-4B93-85C4-385782B728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document similarity mea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cluster cost criter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90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352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9718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41911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4495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4267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EC0-9B4A-484C-8D37-78FBFE1CB3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410080" y="2514600"/>
            <a:ext cx="83844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document similarity mea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cluster cost or similarity criter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like documents into clusters with minimal cluster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2590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352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9718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41911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4495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91520" y="4267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429000"/>
            <a:ext cx="7617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419112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41911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60A-9694-4AE7-A711-8634FC4069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uster Cost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-of-squared-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squared d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= (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6A9-84EE-49AC-A2D5-6F0FB0226C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uster Similarity Meas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the similarity of two clusters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mi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ma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1/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||(1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3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5F3-26D2-446D-BCFA-8721B7F4B8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t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 points to initial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u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this is done by random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il 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a candidate poi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in clust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“best” clust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n mov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259-B1E2-4234-9DDC-5A96891810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ser must pre-select the number of clu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the “correct” number is not known in adva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quality of the outcome is usually dependent on the quality of the initial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y use some other algorithm to create a good initial assignme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E18-752F-4560-BDE4-E425693BE6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erarchical Agglomerative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 single-document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two clusters with greatest simi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2590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2819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352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97180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124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32004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41911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9718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35053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35812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37339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4495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4572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2670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41911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32004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9718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8195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29718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971800"/>
            <a:ext cx="152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2590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3733920"/>
            <a:ext cx="152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37339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350532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44956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4267080"/>
            <a:ext cx="15228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4572000"/>
            <a:ext cx="15228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 Retrieval and Digital Libra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0B7-1A3D-44D2-83D1-CCA4D82BC1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 Staelin</cp:lastModifiedBy>
  <dcterms:modified xsi:type="dcterms:W3CDTF">2001-04-25T09:28:36Z</dcterms:modified>
  <cp:revision>21</cp:revision>
  <dc:subject/>
  <dc:title>PowerPoint Presentation</dc:title>
</cp:coreProperties>
</file>