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403-F18A-45EB-8C1F-6BEFC1B6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B51-ACE8-49B9-A611-9B4A76B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5BD-F078-468C-84F3-DB15BB32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2A8-B901-4570-8192-45DAF91A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BEA-1B93-4488-96DF-71660A7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3AB-513A-4F38-B222-4C9253BC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E6E-7F40-478E-A068-AC44176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262-8758-41BA-9603-74FE60F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344-F6B7-41C8-B8E6-62D8367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856-4BF5-4660-B029-4935B72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B8B-5E80-429B-A40D-A43CEDB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EFF-46B9-456F-93B7-0D58681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CB7B-948F-425F-82E7-DC2768D5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iteseer.nj.nec.com/context/1972816/0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9/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hen we know k, the number of clusters we want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ick k points as the “centroids” of the k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point, put the point in the cluster to whose centroid it is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pute the cluster cent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loop (until there is no change in clusters between two consecutive iteration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400" y="58672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rative improvement of the objective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 of the squared distance from each point to the centroid of its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K-means Example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icity,  1-dimension objects and k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difference is used as th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: 1, 2,    5,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select 5 and 6 as centroi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Two clusters {1,2,5} and {6,7}; meanC1=8/3, meanC2=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{1,2}, {5,6,7}; meanC1=1.5, meanC2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n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dissimi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m of squares of distanceeach point of each cluster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uster center--(intra-cluster distan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0960" y="5119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5200" y="6461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|1-1.5|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200400" y="63241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K Means Example</a:t>
            </a:r>
            <a:br>
              <a:rPr sz="4400"/>
            </a:br>
            <a:r>
              <a:rPr b="0" lang="en-US" sz="4000" spc="-1" strike="noStrike">
                <a:solidFill>
                  <a:srgbClr val="cc0099"/>
                </a:solidFill>
                <a:latin typeface="Times New Roman"/>
              </a:rPr>
              <a:t>(K=2)</a:t>
            </a:r>
            <a:endParaRPr b="0" lang="en-US" sz="40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76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19720" y="1523880"/>
            <a:ext cx="3456720" cy="2360880"/>
            <a:chOff x="4419720" y="1523880"/>
            <a:chExt cx="3456720" cy="2360880"/>
          </a:xfrm>
        </p:grpSpPr>
        <p:sp>
          <p:nvSpPr>
            <p:cNvPr id="91" name=""/>
            <p:cNvSpPr/>
            <p:nvPr/>
          </p:nvSpPr>
          <p:spPr>
            <a:xfrm>
              <a:off x="6627240" y="1523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00200" y="1981080"/>
            <a:ext cx="6966720" cy="2589480"/>
            <a:chOff x="1600200" y="1981080"/>
            <a:chExt cx="6966720" cy="2589480"/>
          </a:xfrm>
        </p:grpSpPr>
        <p:sp>
          <p:nvSpPr>
            <p:cNvPr id="95" name="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5800" y="1981080"/>
              <a:ext cx="19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90560" y="2438280"/>
            <a:ext cx="6175800" cy="1541880"/>
            <a:chOff x="2590560" y="2438280"/>
            <a:chExt cx="6175800" cy="1541880"/>
          </a:xfrm>
        </p:grpSpPr>
        <p:sp>
          <p:nvSpPr>
            <p:cNvPr id="107" name=""/>
            <p:cNvSpPr/>
            <p:nvPr/>
          </p:nvSpPr>
          <p:spPr>
            <a:xfrm>
              <a:off x="6653160" y="24382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86200" y="2895480"/>
            <a:ext cx="4779360" cy="608040"/>
            <a:chOff x="3886200" y="2895480"/>
            <a:chExt cx="4779360" cy="608040"/>
          </a:xfrm>
        </p:grpSpPr>
        <p:sp>
          <p:nvSpPr>
            <p:cNvPr id="111" name="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5440" y="28954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sssign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04760" y="3276720"/>
            <a:ext cx="6861600" cy="703440"/>
            <a:chOff x="1904760" y="3276720"/>
            <a:chExt cx="6861600" cy="703440"/>
          </a:xfrm>
        </p:grpSpPr>
        <p:sp>
          <p:nvSpPr>
            <p:cNvPr id="116" name="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aeff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aeff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3160" y="335268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625800" y="380988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6160" y="4343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3920" y="646128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Moone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sotw9_temp0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524400" cy="6184800"/>
          </a:xfrm>
          <a:prstGeom prst="rect">
            <a:avLst/>
          </a:prstGeom>
          <a:ln w="0">
            <a:noFill/>
          </a:ln>
        </p:spPr>
      </p:pic>
      <p:pic>
        <p:nvPicPr>
          <p:cNvPr id="125" name="msotw9_temp0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60920" cy="3695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28160" y="727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K-means i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57320" y="64152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Hand et. Al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computing distance between two instances is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mensionality of th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igning clusters: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istance computations, or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centroids: Each instance vector gets added once to some centroid: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rations: 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k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in all relevant factor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uming a fixed number of itera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tha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AC (to come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roblems with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know k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ld try out several 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nfortunately, cluster tightness increases with increasing K. The best intra-cluster tightness occurs when k=n (every point in its own clu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s to go to local minima that are sensitive to the starting cent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ry out multiple star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joint and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have a notion of “outli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 problem can be handled by  K-medoid or neighborhood-based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clusters are spherical in vector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coordinate changes, weighting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48320" y="3505320"/>
            <a:ext cx="1295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6600" y="365760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Variations on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the centroid after every (or few) changes (rather than after all the points are re-as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convergenc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centroids (seeds) change which local minima we converge to, as well as the rate of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 to pick good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nother cheap clustering over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K-means M times and pick the best clustering tha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ecting K-means takes this idea furt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438280"/>
            <a:ext cx="1676520" cy="1219320"/>
          </a:xfrm>
          <a:prstGeom prst="wedgeRoundRectCallout">
            <a:avLst>
              <a:gd name="adj1" fmla="val -52462"/>
              <a:gd name="adj2" fmla="val 7044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7720" y="2514600"/>
            <a:ext cx="169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est aggr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intra-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isecting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1 to k-1 do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eaf cluster C to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=1 to ITER do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se K-means to split C into two sub-clusters,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oose the best of the above splits and make it perman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295280"/>
            <a:ext cx="2133720" cy="1067040"/>
          </a:xfrm>
          <a:prstGeom prst="wedgeRoundRectCallout">
            <a:avLst>
              <a:gd name="adj1" fmla="val -68750"/>
              <a:gd name="adj2" fmla="val 10431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7280" y="1371600"/>
            <a:ext cx="20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 pick the lar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uster or th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lowest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2160" y="5715000"/>
            <a:ext cx="44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sive hierarchical cluste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666880" y="0"/>
          <a:ext cx="4392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0"/>
                    <a:ext cx="439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ass of 16th October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4" name="scoo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4724280"/>
          <a:ext cx="914400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724280"/>
                    <a:ext cx="914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6520" y="3962520"/>
            <a:ext cx="87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Midterm on October 23rd. In class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Hierarchical Clustering Techniqu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a nested (multi-resolution) sequence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one cluster and recursively sub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secting K-means is an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lomerative (H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data points as single point clusters, and recursively merge the closest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2063880" cy="2971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08480" y="556272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dogr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dea and Applicatio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grouping a set of physical or abstract objects into classes of similar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called unsupervise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common and important task that finds many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Search eng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ing 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ng relate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directory construction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ar identical/duplicat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ierarchical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gglomerative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lustering Example 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ut every point in a cluster by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I=1 to N-1 do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t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nd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be the most mergeable pair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s parent of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or simplicity,  we still use 1-dimensiona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al difference is used as th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: 1, 2,    5, 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lomerative cluster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wo closest objects and mer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 so we have now {1.5,5, 6,7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{5,6}, so {1.5, 5.5,7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{1,2}, {{5,6},7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18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90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768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5760" y="571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388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Single Link Example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184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20968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657600"/>
            <a:ext cx="41148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47280" y="14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roperties of HAC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complete binary tree (“Dendogram”)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ways to determine mer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link”—distance between clos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-link”—distance between farthest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-average”—average distance between all pairs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id distance”—distance  between  centroids is the most commo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stic (modulo tie-brea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i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used to say this is better than K-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Stenbach paper says K-means and bisecting K-means are actually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mpact of cluster distance measur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251680" cy="2968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5029200" cy="286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4520" y="1981080"/>
            <a:ext cx="472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gle-Li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ter-cluster distanc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 between closest pair of 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26960" y="585144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-Li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ter-cluster distanc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 between farthest pair of 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440" y="646128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From Moone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mplete Link Example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212" name="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24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2666880"/>
            <a:ext cx="7452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666880"/>
            <a:ext cx="74880" cy="748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4114800"/>
            <a:ext cx="7452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4114800"/>
            <a:ext cx="74880" cy="74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80988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62320"/>
            <a:ext cx="1524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3809880"/>
            <a:ext cx="15238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68560" y="2057400"/>
            <a:ext cx="2057400" cy="2819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2055960"/>
            <a:ext cx="2057400" cy="281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612800"/>
            <a:ext cx="4876920" cy="3657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isecting K-mean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1 to k-1 do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eaf cluster C to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=1 to ITER do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se K-means to split C into two sub-clusters,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nd 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oose the best of the above splits and make it permane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295280"/>
            <a:ext cx="2133720" cy="1067040"/>
          </a:xfrm>
          <a:prstGeom prst="wedgeRoundRectCallout">
            <a:avLst>
              <a:gd name="adj1" fmla="val -68750"/>
              <a:gd name="adj2" fmla="val 10431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7280" y="1371600"/>
            <a:ext cx="20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 pick the lar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uster or th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lowest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2160" y="5715000"/>
            <a:ext cx="44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sive hierarchical cluste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Buckshot Algorithm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HAC and K-Means clus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andomly take a sample of instances of size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group-average HAC on this sample, which takes only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ults of HAC as initial seeds for K-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algorithm is 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voids problems of bad seed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895480"/>
            <a:ext cx="22860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380600">
            <a:off x="286920" y="92808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brid metho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5760" y="6186600"/>
            <a:ext cx="37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HAC to bootstrap K-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063520" cy="2971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469280" y="2079720"/>
            <a:ext cx="565200" cy="3544920"/>
          </a:xfrm>
          <a:custGeom>
            <a:avLst/>
            <a:gdLst/>
            <a:ahLst/>
            <a:rect l="l" t="t" r="r" b="b"/>
            <a:pathLst>
              <a:path w="356" h="2233">
                <a:moveTo>
                  <a:pt x="132" y="0"/>
                </a:moveTo>
                <a:cubicBezTo>
                  <a:pt x="129" y="13"/>
                  <a:pt x="125" y="27"/>
                  <a:pt x="123" y="40"/>
                </a:cubicBezTo>
                <a:cubicBezTo>
                  <a:pt x="117" y="75"/>
                  <a:pt x="105" y="145"/>
                  <a:pt x="105" y="145"/>
                </a:cubicBezTo>
                <a:cubicBezTo>
                  <a:pt x="101" y="207"/>
                  <a:pt x="89" y="264"/>
                  <a:pt x="83" y="326"/>
                </a:cubicBezTo>
                <a:cubicBezTo>
                  <a:pt x="80" y="396"/>
                  <a:pt x="72" y="456"/>
                  <a:pt x="61" y="524"/>
                </a:cubicBezTo>
                <a:cubicBezTo>
                  <a:pt x="50" y="714"/>
                  <a:pt x="42" y="902"/>
                  <a:pt x="22" y="1091"/>
                </a:cubicBezTo>
                <a:cubicBezTo>
                  <a:pt x="17" y="1223"/>
                  <a:pt x="14" y="1355"/>
                  <a:pt x="0" y="1486"/>
                </a:cubicBezTo>
                <a:cubicBezTo>
                  <a:pt x="1" y="1674"/>
                  <a:pt x="1" y="1861"/>
                  <a:pt x="4" y="2049"/>
                </a:cubicBezTo>
                <a:cubicBezTo>
                  <a:pt x="5" y="2095"/>
                  <a:pt x="12" y="2179"/>
                  <a:pt x="66" y="2194"/>
                </a:cubicBezTo>
                <a:cubicBezTo>
                  <a:pt x="87" y="2208"/>
                  <a:pt x="111" y="2220"/>
                  <a:pt x="136" y="2225"/>
                </a:cubicBezTo>
                <a:cubicBezTo>
                  <a:pt x="241" y="2221"/>
                  <a:pt x="214" y="2233"/>
                  <a:pt x="272" y="2199"/>
                </a:cubicBezTo>
                <a:cubicBezTo>
                  <a:pt x="307" y="2143"/>
                  <a:pt x="296" y="2168"/>
                  <a:pt x="312" y="2128"/>
                </a:cubicBezTo>
                <a:cubicBezTo>
                  <a:pt x="337" y="1939"/>
                  <a:pt x="304" y="1801"/>
                  <a:pt x="264" y="1627"/>
                </a:cubicBezTo>
                <a:cubicBezTo>
                  <a:pt x="240" y="1417"/>
                  <a:pt x="233" y="1188"/>
                  <a:pt x="268" y="981"/>
                </a:cubicBezTo>
                <a:cubicBezTo>
                  <a:pt x="271" y="917"/>
                  <a:pt x="275" y="864"/>
                  <a:pt x="299" y="805"/>
                </a:cubicBezTo>
                <a:cubicBezTo>
                  <a:pt x="303" y="766"/>
                  <a:pt x="310" y="742"/>
                  <a:pt x="330" y="708"/>
                </a:cubicBezTo>
                <a:cubicBezTo>
                  <a:pt x="356" y="511"/>
                  <a:pt x="346" y="503"/>
                  <a:pt x="334" y="189"/>
                </a:cubicBezTo>
                <a:cubicBezTo>
                  <a:pt x="333" y="154"/>
                  <a:pt x="311" y="93"/>
                  <a:pt x="281" y="71"/>
                </a:cubicBezTo>
                <a:cubicBezTo>
                  <a:pt x="251" y="11"/>
                  <a:pt x="192" y="4"/>
                  <a:pt x="132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95000" y="1143000"/>
            <a:ext cx="14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t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ou have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ext 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 and K-Means have been applied to text in a straightforward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rm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F/IDF-weighted vectors and cosin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computations for sparse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etrieval, add other documents in the same cluster as the initial retrieved documents to improve re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of results of retrieval to present more organized results to the user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Northernlight fold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production of hierarchical taxonomies of documents for browsing purpose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Yahoo &amp; DMO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Which of these are the best for text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ing K-means and K-means seem to do better than Agglomerative Clustering techniques for Text document data [Steinbach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s defined in terms of cluste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: Overall Simi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: Check how good the clusters are w.r.t. user defined notion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hallenges/Other Idea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mens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vectors in high-D spaces will be ortho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LSI analysis first, project data into the most important m-dimensions, and then do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Manj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phrases may be more indicative of similarity than sharing of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full WEB, phrasal analysis was too costly, so we went with vector similarity. But for top 100 results of a query, it is possible to do phrasal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ffix-tre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hingl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link-structure in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H analysis based idea of connected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-citation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rt of the idea used in Amazon’s collaborative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mportant for “global”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do more than one pass; limited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pa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calable techniques for clustering the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ity sensitive hashing is used to make similar documents collide to same bu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When &amp; From Wh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 can be done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query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snip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can be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pages from the same serv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ex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-Polysemy (“bat”, “bank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-Multiple aspects of a single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ok at the connected components in the link graph (A/H analysis can do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14800" cy="3220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5867640" cy="4593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320" y="3657600"/>
            <a:ext cx="3657600" cy="2863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706280" y="650880"/>
            <a:ext cx="43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rase-analysis based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using suffix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Other (general clustering) challeng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ing with noise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”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utlier is one that has les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with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ance”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pecified thres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fficient data structures for keeping track of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different types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define distance over categoric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2752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5702040" cy="579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609480"/>
            <a:ext cx="6002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ncepts in Clustering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distance betwee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ine distance (which you already k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 dista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clustering is one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ntra-cluster distan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um of distances between objects in the same cluster are minimiz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-cluster distanc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the distances between different clusters are max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to minimize: F(Intra,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can be evaluated with “internal” as well as “external”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measures are related to the inter/intra cluste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measures are related to how representative are the current clusters to “true” 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entr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-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[Steinbach et.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962520" y="1905120"/>
                <a:ext cx="546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∩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∪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Inter/Intra Cluster Distance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-cluste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m/Min/Max/Avg) the (absolute/squared) distanc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irs of points in the cluste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centroid and all points in the cluster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“medoid” and all points in the 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-cluste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the (squared) distance between all pair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istance between two clusters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their centroids/med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cc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Spherical clus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the closest pair of points belonging to th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cc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Chain shaped clus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of 10/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How hard is clustering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 is to consider all possible clusterings, and pick the one that has best inter and intra cluster distance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are given n points, and would like to cluster them into k-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cluster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162920" y="2057400"/>
                <a:ext cx="873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411480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ard to do it brute force or optim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Iterative optimiza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clustering, iteratively improve it (eg. K-me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a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assical clustering method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(and EM), k-Med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lomerative, divisive, BI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-based cluster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01:10:06Z</dcterms:created>
  <dc:creator>SUNY Learning Network</dc:creator>
  <dc:description/>
  <dc:language>en-US</dc:language>
  <cp:lastModifiedBy>Subbrao Kambhampati</cp:lastModifiedBy>
  <cp:lastPrinted>2001-03-05T16:49:30Z</cp:lastPrinted>
  <dcterms:modified xsi:type="dcterms:W3CDTF">2002-10-16T21:23:35Z</dcterms:modified>
  <cp:revision>525</cp:revision>
  <dc:subject/>
  <dc:title>CHAPTER 1: INTRODUCTION</dc:title>
</cp:coreProperties>
</file>